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359900" cy="7199313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8816-E032-4A2B-B992-E09707A8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C197-E7D7-4895-B60F-C8CA11E2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F9D-16C7-4B38-BD2F-560DD55D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04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7904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04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4161600"/>
            <a:ext cx="27126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4996-ED36-42C0-94F3-71A88C07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BF28-99DF-4E59-B53E-36FD09A7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3085-7C88-4A64-9F07-D5FF4E1E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FB66-1D9E-4BAC-826A-B6B2A9B3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2CE-F373-42F2-834D-A55F186B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88720"/>
            <a:ext cx="842472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4144-7905-4C0A-8C8D-06D497BC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5A46-4A28-4C26-ADA8-D629FE6E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416160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18F9-3F21-4215-8953-F266AC2A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79040"/>
            <a:ext cx="411120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61600"/>
            <a:ext cx="8424720" cy="226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DAEB-E3F7-441F-ADA1-AA882CB3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88720"/>
            <a:ext cx="8424720" cy="119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7904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952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365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1655640" indent="-2365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2128680" indent="-23652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360" y="6557760"/>
            <a:ext cx="21844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98600" y="6557760"/>
            <a:ext cx="29638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8600" y="6557760"/>
            <a:ext cx="2184480" cy="500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96DD-B491-4349-9BD0-CC6C6E7AA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EMOHON.pptx" TargetMode="External"/><Relationship Id="rId2" Type="http://schemas.openxmlformats.org/officeDocument/2006/relationships/hyperlink" Target="file:///Perbaikan%20dan%20Cara%20menghitung%20tenggang%20waktu.pptx" TargetMode="External"/><Relationship Id="rId3" Type="http://schemas.openxmlformats.org/officeDocument/2006/relationships/hyperlink" Target="file:///Perbaikan%20dan%20Cara%20menghitung%20tenggang%20waktu.pptx" TargetMode="External"/><Relationship Id="rId4" Type="http://schemas.openxmlformats.org/officeDocument/2006/relationships/hyperlink" Target="file:///PASCA%20REGISTRASI.pptx" TargetMode="External"/><Relationship Id="rId5" Type="http://schemas.openxmlformats.org/officeDocument/2006/relationships/hyperlink" Target="file:///Penyampaian%20Salinan%20permohonan.pptx" TargetMode="External"/><Relationship Id="rId6" Type="http://schemas.openxmlformats.org/officeDocument/2006/relationships/hyperlink" Target="file:///Penyampaian%20Salinan%20permohonan.pptx" TargetMode="External"/><Relationship Id="rId7" Type="http://schemas.openxmlformats.org/officeDocument/2006/relationships/hyperlink" Target="file:///PIHAK%20TERKAIT.pptx" TargetMode="External"/><Relationship Id="rId8" Type="http://schemas.openxmlformats.org/officeDocument/2006/relationships/hyperlink" Target="file:///Sidang%20Pendahuluan.pptx" TargetMode="External"/><Relationship Id="rId9" Type="http://schemas.openxmlformats.org/officeDocument/2006/relationships/hyperlink" Target="file:///Penyampaian%20Jawaban%20dan%20Ket.pptx" TargetMode="External"/><Relationship Id="rId10" Type="http://schemas.openxmlformats.org/officeDocument/2006/relationships/hyperlink" Target="file:///Sidang%20Persidangan.pptx" TargetMode="External"/><Relationship Id="rId11" Type="http://schemas.openxmlformats.org/officeDocument/2006/relationships/hyperlink" Target="file:///Persidangan.pptx" TargetMode="Externa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939960" y="2616120"/>
            <a:ext cx="75531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MEKANISME, </a:t>
            </a:r>
            <a:r>
              <a:rPr b="1" lang="id-ID" sz="2800" spc="-1" strike="noStrike">
                <a:solidFill>
                  <a:srgbClr val="002060"/>
                </a:solidFill>
                <a:latin typeface="Cambria"/>
                <a:ea typeface="Cambria"/>
              </a:rPr>
              <a:t>TAHAPAN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,</a:t>
            </a:r>
            <a:r>
              <a:rPr b="1" lang="id-ID" sz="2800" spc="-1" strike="noStrike">
                <a:solidFill>
                  <a:srgbClr val="002060"/>
                </a:solidFill>
                <a:latin typeface="Cambria"/>
                <a:ea typeface="Cambria"/>
              </a:rPr>
              <a:t> KEGIATAN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, DAN JADWAL </a:t>
            </a:r>
            <a:r>
              <a:rPr b="1" lang="en-US" sz="2800" spc="-1" strike="noStrike">
                <a:solidFill>
                  <a:srgbClr val="002060"/>
                </a:solidFill>
                <a:latin typeface="Cambria"/>
                <a:ea typeface="Cambria"/>
              </a:rPr>
              <a:t>PENANGANAN PERKARA </a:t>
            </a:r>
            <a:r>
              <a:rPr b="1" lang="en-ID" sz="2800" spc="-1" strike="noStrike">
                <a:solidFill>
                  <a:srgbClr val="002060"/>
                </a:solidFill>
                <a:latin typeface="Cambria"/>
                <a:ea typeface="Cambria"/>
              </a:rPr>
              <a:t>PERSELISIHAN HASIL PEMILIHAN UMUM ANGGOTA DPR DAN DPRD TAHUN 20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608040"/>
            <a:ext cx="9361440" cy="4636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1"/>
          <a:stretch/>
        </p:blipFill>
        <p:spPr>
          <a:xfrm>
            <a:off x="4041720" y="227160"/>
            <a:ext cx="1243080" cy="1187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4" name="TextBox 9"/>
          <p:cNvSpPr/>
          <p:nvPr/>
        </p:nvSpPr>
        <p:spPr>
          <a:xfrm>
            <a:off x="2814480" y="1397160"/>
            <a:ext cx="365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MAHKAMAH KONSTITU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REPUBLIK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1208160" y="6035760"/>
            <a:ext cx="709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D</a:t>
            </a:r>
            <a:r>
              <a:rPr b="1" lang="id-ID" sz="1400" spc="-1" strike="noStrike">
                <a:solidFill>
                  <a:srgbClr val="002060"/>
                </a:solidFill>
                <a:latin typeface="Cambria"/>
              </a:rPr>
              <a:t>ISAMPAIKAN DALAM </a:t>
            </a: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KEGIATAN BIMBINGAN TEKNIS HUKUM ACARA DALAM PERKARA PERSELISIHAN HASIL PEMILIHAN UMUM TAHUN</a:t>
            </a:r>
            <a:r>
              <a:rPr b="1" i="1" lang="en-ID" sz="1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TAHUN</a:t>
            </a:r>
            <a:r>
              <a:rPr b="1" lang="en-US" sz="1400" spc="-1" strike="noStrike">
                <a:solidFill>
                  <a:srgbClr val="002060"/>
                </a:solidFill>
                <a:latin typeface="Cambria"/>
              </a:rPr>
              <a:t> 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2795760" y="4562640"/>
            <a:ext cx="3827160" cy="8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Ole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Kepaniteraan dan Sekretariat Jender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Mahkamah Konstitu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0" y="491040"/>
            <a:ext cx="9361440" cy="521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mbria"/>
                <a:ea typeface="Cambria"/>
              </a:rPr>
              <a:t>DASAR HUK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EF2F-6F61-4DF8-A14B-6440E6601FF0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Content Placeholder 2"/>
          <p:cNvSpPr/>
          <p:nvPr/>
        </p:nvSpPr>
        <p:spPr>
          <a:xfrm>
            <a:off x="369720" y="1614600"/>
            <a:ext cx="84981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DASAR 19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24 TAHUN 2003 </a:t>
            </a:r>
            <a:r>
              <a:rPr b="0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sebagaimana telah diubah terakhir dengan 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20  tentang PERUBAHAN KETIGA atas UNDANG-UNDANG NOMOR 24 TAHUN 2003  tentang MAHKAMAH KONSTITU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UNDANG-UNDANG NOMOR 7 TAHUN 2017 tentang PEMILIHAN U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MK NOMOR 2 TAHUN 2023 TENTANG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TATA BERACARA DALAM PERKARA 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PHPU ANGGOTA DEWAN PERWAKILAN RAKYAT DAN DEWAN PERWAKILAN RAKYAT DAER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2060"/>
              </a:buClr>
              <a:buFont typeface="Wingdings" charset="2"/>
              <a:buChar char=""/>
              <a:tabLst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MK NOMOR 5 TAHUN 2023 TENTANG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TAHAPAN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,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 KEGIATAN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, DAN JADWAL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PENANGANAN PERKARA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ERSELISIHAN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H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ASIL 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P</a:t>
            </a:r>
            <a:r>
              <a:rPr b="1" lang="en-US" sz="1800" spc="-1" strike="noStrike">
                <a:solidFill>
                  <a:srgbClr val="002060"/>
                </a:solidFill>
                <a:latin typeface="Cambria"/>
                <a:ea typeface="Cambria"/>
              </a:rPr>
              <a:t>EMIL</a:t>
            </a:r>
            <a:r>
              <a:rPr b="1" lang="id-ID" sz="1800" spc="-1" strike="noStrike">
                <a:solidFill>
                  <a:srgbClr val="002060"/>
                </a:solidFill>
                <a:latin typeface="Cambria"/>
                <a:ea typeface="Cambria"/>
              </a:rPr>
              <a:t>IHAN UMUM</a:t>
            </a:r>
            <a:r>
              <a:rPr b="1" lang="en-ID" sz="1800" spc="-1" strike="noStrike">
                <a:solidFill>
                  <a:srgbClr val="002060"/>
                </a:solidFill>
                <a:latin typeface="Cambria"/>
                <a:ea typeface="Cambria"/>
              </a:rPr>
              <a:t> ANGGOTA DPR, DPD, DPRD SETA PEMILIHAN UMUM PRESIDEN DAN WAKIL PRESI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47736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TAHAPAN PENANGANAN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PR DAN DPRD 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EBAD-0CD8-4ACF-BC99-452993D981FC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299880" y="1492200"/>
            <a:ext cx="8793360" cy="56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1"/>
              </a:rPr>
              <a:t>Pengajuan Permohonan Pemo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2"/>
              </a:rPr>
              <a:t>Melengkapi dan Memperbaiki</a:t>
            </a: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3"/>
              </a:rPr>
              <a:t> Permohonan Pemoh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meriksa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Kelengkapan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dan Perbaik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rmohonan Pe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erbitan Hasil Pemeriksa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Kelengkapan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dan Perbaikan </a:t>
            </a: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rmohonan Pemo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b05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4"/>
              </a:rPr>
              <a:t>Pencatatan Permohonan Pemohon dalam 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5"/>
              </a:rPr>
              <a:t>Penyampaian Salinan Permohonan Pemohon kepada </a:t>
            </a: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6"/>
              </a:rPr>
              <a:t>Termohon dan Bawa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7"/>
              </a:rPr>
              <a:t>Pengajuan Permohonan sebagai Pihak Terk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mberitahuan Hari Sidang Pertama kepada Para Pihak dan Pemberi Keteran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yampaian Ketetapan sebagai Pihak Terk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8"/>
              </a:rPr>
              <a:t>Pemeriksaan Pendahulu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9"/>
              </a:rPr>
              <a:t>Penyerahan Jawaban Termohon, Keterangan Pihak Terkait, dan Ket. Bawas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10"/>
              </a:rPr>
              <a:t>Pemeriksaan Persidangan</a:t>
            </a:r>
            <a:r>
              <a:rPr b="1" lang="en-US" sz="1800" spc="-1" strike="noStrike">
                <a:solidFill>
                  <a:srgbClr val="ff0000"/>
                </a:solidFill>
                <a:latin typeface="Cambria"/>
                <a:ea typeface="Arial"/>
              </a:rPr>
              <a:t>- </a:t>
            </a:r>
            <a:r>
              <a:rPr b="0" lang="en-US" sz="1800" spc="-1" strike="noStrike" u="sng">
                <a:solidFill>
                  <a:srgbClr val="cc3300"/>
                </a:solidFill>
                <a:uFillTx/>
                <a:latin typeface="Cambria"/>
                <a:ea typeface="Arial"/>
                <a:hlinkClick r:id="rId11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Rapat Permusyawaratan Ha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ucapan Putusan</a:t>
            </a: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/Ketet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Pemeriksaan Persidangan (Lanjut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Rapat Permusyawaratan Ha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000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ff0000"/>
                </a:solidFill>
                <a:latin typeface="Cambria"/>
                <a:ea typeface="Arial"/>
              </a:rPr>
              <a:t>Pengucapan Putusan</a:t>
            </a:r>
            <a:r>
              <a:rPr b="1" lang="en-ID" sz="1800" spc="-1" strike="noStrike">
                <a:solidFill>
                  <a:srgbClr val="ff0000"/>
                </a:solidFill>
                <a:latin typeface="Cambria"/>
                <a:ea typeface="Arial"/>
              </a:rPr>
              <a:t>/Ketet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4492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2060"/>
              </a:buClr>
              <a:buFont typeface="Cambria"/>
              <a:buAutoNum type="arabicPeriod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2060"/>
                </a:solidFill>
                <a:latin typeface="Cambria"/>
                <a:ea typeface="Arial"/>
              </a:rPr>
              <a:t>Penyerahan salinan Putusan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  <a:ea typeface="Arial"/>
              </a:rPr>
              <a:t>/Ketet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5-Point Star 1"/>
          <p:cNvSpPr/>
          <p:nvPr/>
        </p:nvSpPr>
        <p:spPr>
          <a:xfrm>
            <a:off x="8585280" y="804960"/>
            <a:ext cx="507960" cy="341280"/>
          </a:xfrm>
          <a:custGeom>
            <a:avLst/>
            <a:gdLst/>
            <a:ahLst/>
            <a:rect l="l" t="t" r="r" b="b"/>
            <a:pathLst>
              <a:path w="508000" h="341312">
                <a:moveTo>
                  <a:pt x="1" y="130369"/>
                </a:moveTo>
                <a:lnTo>
                  <a:pt x="194040" y="130370"/>
                </a:lnTo>
                <a:lnTo>
                  <a:pt x="254000" y="0"/>
                </a:lnTo>
                <a:lnTo>
                  <a:pt x="313960" y="130370"/>
                </a:lnTo>
                <a:lnTo>
                  <a:pt x="507999" y="130369"/>
                </a:lnTo>
                <a:lnTo>
                  <a:pt x="351018" y="210942"/>
                </a:lnTo>
                <a:lnTo>
                  <a:pt x="410980" y="341311"/>
                </a:lnTo>
                <a:lnTo>
                  <a:pt x="254000" y="260737"/>
                </a:lnTo>
                <a:lnTo>
                  <a:pt x="97020" y="341311"/>
                </a:lnTo>
                <a:lnTo>
                  <a:pt x="156982" y="210942"/>
                </a:lnTo>
                <a:lnTo>
                  <a:pt x="1" y="130369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GUMUMAN HASIL PEMILU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ANGGOTA 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TAHUN 20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3D4B-1FE2-485F-B0E0-727555CFE300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0" descr=""/>
          <p:cNvPicPr/>
          <p:nvPr/>
        </p:nvPicPr>
        <p:blipFill>
          <a:blip r:embed="rId1"/>
          <a:stretch/>
        </p:blipFill>
        <p:spPr>
          <a:xfrm>
            <a:off x="3666960" y="1689120"/>
            <a:ext cx="2143440" cy="2143080"/>
          </a:xfrm>
          <a:prstGeom prst="rect">
            <a:avLst/>
          </a:prstGeom>
          <a:ln w="0">
            <a:noFill/>
          </a:ln>
        </p:spPr>
      </p:pic>
      <p:sp>
        <p:nvSpPr>
          <p:cNvPr id="57" name="Speech Bubble: Oval 10"/>
          <p:cNvSpPr/>
          <p:nvPr/>
        </p:nvSpPr>
        <p:spPr>
          <a:xfrm>
            <a:off x="5722920" y="1419120"/>
            <a:ext cx="2494080" cy="11368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2"/>
          <p:cNvSpPr/>
          <p:nvPr/>
        </p:nvSpPr>
        <p:spPr>
          <a:xfrm>
            <a:off x="5680080" y="1609560"/>
            <a:ext cx="2660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2060"/>
                </a:solidFill>
                <a:latin typeface="Cambria"/>
              </a:rPr>
              <a:t>Pengumuman Hasil Pemilu Serentak Tahun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2060"/>
                </a:solidFill>
                <a:latin typeface="Cambria"/>
              </a:rPr>
              <a:t>15 Feb – 20 Mar 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3"/>
          <p:cNvSpPr/>
          <p:nvPr/>
        </p:nvSpPr>
        <p:spPr>
          <a:xfrm>
            <a:off x="4403880" y="339732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ff"/>
                </a:solidFill>
                <a:latin typeface="Cambria"/>
              </a:rPr>
              <a:t>K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46"/>
          <p:cNvSpPr/>
          <p:nvPr/>
        </p:nvSpPr>
        <p:spPr>
          <a:xfrm>
            <a:off x="488880" y="4005360"/>
            <a:ext cx="8429760" cy="10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Kamis 15 Februari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entagon 62"/>
          <p:cNvSpPr/>
          <p:nvPr/>
        </p:nvSpPr>
        <p:spPr>
          <a:xfrm>
            <a:off x="669960" y="4522680"/>
            <a:ext cx="1681200" cy="36036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5" y="0"/>
                </a:lnTo>
                <a:lnTo>
                  <a:pt x="21600" y="10800"/>
                </a:lnTo>
                <a:lnTo>
                  <a:pt x="192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15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entagon 83"/>
          <p:cNvSpPr/>
          <p:nvPr/>
        </p:nvSpPr>
        <p:spPr>
          <a:xfrm>
            <a:off x="2798640" y="4519440"/>
            <a:ext cx="1644840" cy="35892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16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 91"/>
          <p:cNvSpPr/>
          <p:nvPr/>
        </p:nvSpPr>
        <p:spPr>
          <a:xfrm>
            <a:off x="4836960" y="4513320"/>
            <a:ext cx="1757520" cy="36036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85" y="0"/>
                </a:lnTo>
                <a:lnTo>
                  <a:pt x="21600" y="10800"/>
                </a:lnTo>
                <a:lnTo>
                  <a:pt x="19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Sabtu 17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entagon 99"/>
          <p:cNvSpPr/>
          <p:nvPr/>
        </p:nvSpPr>
        <p:spPr>
          <a:xfrm>
            <a:off x="7029360" y="4495680"/>
            <a:ext cx="1749600" cy="360360"/>
          </a:xfrm>
          <a:custGeom>
            <a:avLst/>
            <a:gdLst>
              <a:gd name="textAreaLeft" fmla="*/ 0 w 1749600"/>
              <a:gd name="textAreaRight" fmla="*/ 1749960 w 1749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75" y="0"/>
                </a:lnTo>
                <a:lnTo>
                  <a:pt x="21600" y="10800"/>
                </a:lnTo>
                <a:lnTo>
                  <a:pt x="193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Minggu 18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33"/>
          <p:cNvSpPr/>
          <p:nvPr/>
        </p:nvSpPr>
        <p:spPr>
          <a:xfrm>
            <a:off x="2281320" y="45752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1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3"/>
          <p:cNvSpPr/>
          <p:nvPr/>
        </p:nvSpPr>
        <p:spPr>
          <a:xfrm>
            <a:off x="4361040" y="45626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2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3"/>
          <p:cNvSpPr/>
          <p:nvPr/>
        </p:nvSpPr>
        <p:spPr>
          <a:xfrm>
            <a:off x="6532560" y="45608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3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3"/>
          <p:cNvSpPr/>
          <p:nvPr/>
        </p:nvSpPr>
        <p:spPr>
          <a:xfrm>
            <a:off x="515880" y="2066760"/>
            <a:ext cx="269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600" spc="-1" strike="noStrike">
                <a:solidFill>
                  <a:srgbClr val="002060"/>
                </a:solidFill>
                <a:latin typeface="Cambria"/>
              </a:rPr>
              <a:t>Tenggang waktu pengajuan permohonan ke M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paling lama </a:t>
            </a:r>
            <a:r>
              <a:rPr b="1" lang="en-ID" sz="1600" spc="-1" strike="noStrike">
                <a:solidFill>
                  <a:srgbClr val="002060"/>
                </a:solidFill>
                <a:latin typeface="Cambria"/>
              </a:rPr>
              <a:t>3 x 24 jam sejak </a:t>
            </a:r>
            <a:r>
              <a:rPr b="0" lang="en-ID" sz="1600" spc="-1" strike="noStrike">
                <a:solidFill>
                  <a:srgbClr val="002060"/>
                </a:solidFill>
                <a:latin typeface="Cambria"/>
              </a:rPr>
              <a:t>diumumk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46"/>
          <p:cNvSpPr/>
          <p:nvPr/>
        </p:nvSpPr>
        <p:spPr>
          <a:xfrm>
            <a:off x="515880" y="5335560"/>
            <a:ext cx="8429760" cy="1042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400" spc="-1" strike="noStrike">
                <a:solidFill>
                  <a:srgbClr val="002060"/>
                </a:solidFill>
                <a:latin typeface="Cambria"/>
              </a:rPr>
              <a:t>Pengumuman: Rabu 20 Maret 2024, pukul 10.00 W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entagon 105"/>
          <p:cNvSpPr/>
          <p:nvPr/>
        </p:nvSpPr>
        <p:spPr>
          <a:xfrm>
            <a:off x="696960" y="5853240"/>
            <a:ext cx="1681200" cy="360360"/>
          </a:xfrm>
          <a:custGeom>
            <a:avLst/>
            <a:gdLst>
              <a:gd name="textAreaLeft" fmla="*/ 0 w 1681200"/>
              <a:gd name="textAreaRight" fmla="*/ 1681560 w 16812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85" y="0"/>
                </a:lnTo>
                <a:lnTo>
                  <a:pt x="21600" y="10800"/>
                </a:lnTo>
                <a:lnTo>
                  <a:pt x="192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Rabu 20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entagon 106"/>
          <p:cNvSpPr/>
          <p:nvPr/>
        </p:nvSpPr>
        <p:spPr>
          <a:xfrm>
            <a:off x="2825640" y="5850000"/>
            <a:ext cx="1644840" cy="358560"/>
          </a:xfrm>
          <a:custGeom>
            <a:avLst/>
            <a:gdLst>
              <a:gd name="textAreaLeft" fmla="*/ 0 w 1644840"/>
              <a:gd name="textAreaRight" fmla="*/ 1645200 w 1644840"/>
              <a:gd name="textAreaTop" fmla="*/ 0 h 358560"/>
              <a:gd name="textAreaBottom" fmla="*/ 358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44" y="0"/>
                </a:lnTo>
                <a:lnTo>
                  <a:pt x="21600" y="10800"/>
                </a:lnTo>
                <a:lnTo>
                  <a:pt x="1924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Kamis 21 Feb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entagon 107"/>
          <p:cNvSpPr/>
          <p:nvPr/>
        </p:nvSpPr>
        <p:spPr>
          <a:xfrm>
            <a:off x="4863960" y="5843520"/>
            <a:ext cx="1757520" cy="36036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85" y="0"/>
                </a:lnTo>
                <a:lnTo>
                  <a:pt x="21600" y="10800"/>
                </a:lnTo>
                <a:lnTo>
                  <a:pt x="19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Jumat 22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entagon 108"/>
          <p:cNvSpPr/>
          <p:nvPr/>
        </p:nvSpPr>
        <p:spPr>
          <a:xfrm>
            <a:off x="7056360" y="5826240"/>
            <a:ext cx="1749600" cy="360360"/>
          </a:xfrm>
          <a:custGeom>
            <a:avLst/>
            <a:gdLst>
              <a:gd name="textAreaLeft" fmla="*/ 0 w 1749600"/>
              <a:gd name="textAreaRight" fmla="*/ 1749960 w 17496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75" y="0"/>
                </a:lnTo>
                <a:lnTo>
                  <a:pt x="21600" y="10800"/>
                </a:lnTo>
                <a:lnTo>
                  <a:pt x="193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200" spc="-1" strike="noStrike">
                <a:solidFill>
                  <a:srgbClr val="000000"/>
                </a:solidFill>
                <a:latin typeface="Cambria"/>
                <a:ea typeface="Cambria"/>
              </a:rPr>
              <a:t>Sabtu 23 Mrt 2024, 10.00 W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33"/>
          <p:cNvSpPr/>
          <p:nvPr/>
        </p:nvSpPr>
        <p:spPr>
          <a:xfrm>
            <a:off x="2308320" y="59054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1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33"/>
          <p:cNvSpPr/>
          <p:nvPr/>
        </p:nvSpPr>
        <p:spPr>
          <a:xfrm>
            <a:off x="4387680" y="5892840"/>
            <a:ext cx="55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2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33"/>
          <p:cNvSpPr/>
          <p:nvPr/>
        </p:nvSpPr>
        <p:spPr>
          <a:xfrm>
            <a:off x="6559560" y="5891040"/>
            <a:ext cx="55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3 x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baseline="30000">
                <a:solidFill>
                  <a:srgbClr val="000000"/>
                </a:solidFill>
                <a:latin typeface="Cambria"/>
              </a:rPr>
              <a:t>j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PENGAJUAN PERMOHON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EFDE3-F332-40FF-BFAF-9DB9AD063EB8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53"/>
          <p:cNvGrpSpPr/>
          <p:nvPr/>
        </p:nvGrpSpPr>
        <p:grpSpPr>
          <a:xfrm>
            <a:off x="448920" y="2405880"/>
            <a:ext cx="8099640" cy="3675960"/>
            <a:chOff x="448920" y="2405880"/>
            <a:chExt cx="8099640" cy="3675960"/>
          </a:xfrm>
        </p:grpSpPr>
        <p:sp>
          <p:nvSpPr>
            <p:cNvPr id="80" name="Rectangle 54"/>
            <p:cNvSpPr/>
            <p:nvPr/>
          </p:nvSpPr>
          <p:spPr>
            <a:xfrm>
              <a:off x="2552400" y="2905200"/>
              <a:ext cx="1071360" cy="47304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ngaju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mohon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moh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55"/>
            <p:cNvSpPr/>
            <p:nvPr/>
          </p:nvSpPr>
          <p:spPr>
            <a:xfrm>
              <a:off x="5451480" y="5169240"/>
              <a:ext cx="582480" cy="24624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ARP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22"/>
            <p:cNvSpPr/>
            <p:nvPr/>
          </p:nvSpPr>
          <p:spPr>
            <a:xfrm>
              <a:off x="3971880" y="2948040"/>
              <a:ext cx="2044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264"/>
            <p:cNvSpPr/>
            <p:nvPr/>
          </p:nvSpPr>
          <p:spPr>
            <a:xfrm>
              <a:off x="6042600" y="2587680"/>
              <a:ext cx="17604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8"/>
            <p:cNvSpPr/>
            <p:nvPr/>
          </p:nvSpPr>
          <p:spPr>
            <a:xfrm>
              <a:off x="809280" y="2865600"/>
              <a:ext cx="968400" cy="103824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ngumum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netap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roleh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suara h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Pemilu seca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n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asional</a:t>
              </a: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oleh</a:t>
              </a:r>
              <a:r>
                <a:rPr b="1" lang="id-ID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en-US" sz="1200" spc="-1" strike="noStrike" baseline="30000">
                  <a:solidFill>
                    <a:srgbClr val="ffffff"/>
                  </a:solidFill>
                  <a:latin typeface="Cambria"/>
                  <a:ea typeface="Cambria"/>
                </a:rPr>
                <a:t>KP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9"/>
            <p:cNvSpPr/>
            <p:nvPr/>
          </p:nvSpPr>
          <p:spPr>
            <a:xfrm>
              <a:off x="787320" y="3930840"/>
              <a:ext cx="1027080" cy="382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5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Feb 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– 2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0</a:t>
              </a: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Mrt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 202</a:t>
              </a:r>
              <a:r>
                <a:rPr b="1" lang="en-AU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Group 21"/>
            <p:cNvGrpSpPr/>
            <p:nvPr/>
          </p:nvGrpSpPr>
          <p:grpSpPr>
            <a:xfrm>
              <a:off x="7376400" y="4768200"/>
              <a:ext cx="1061640" cy="669240"/>
              <a:chOff x="7376400" y="4768200"/>
              <a:chExt cx="1061640" cy="669240"/>
            </a:xfrm>
          </p:grpSpPr>
          <p:sp>
            <p:nvSpPr>
              <p:cNvPr id="87" name="Rounded Rectangle 94"/>
              <p:cNvSpPr/>
              <p:nvPr/>
            </p:nvSpPr>
            <p:spPr>
              <a:xfrm>
                <a:off x="7376400" y="4768200"/>
                <a:ext cx="1045800" cy="313200"/>
              </a:xfrm>
              <a:prstGeom prst="roundRect">
                <a:avLst>
                  <a:gd name="adj" fmla="val 16667"/>
                </a:avLst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9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e-BRPK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ounded Rectangle 101"/>
              <p:cNvSpPr/>
              <p:nvPr/>
            </p:nvSpPr>
            <p:spPr>
              <a:xfrm>
                <a:off x="7377840" y="5114880"/>
                <a:ext cx="1060200" cy="3225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2 April 20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9" name="Straight Arrow Connector 61"/>
            <p:cNvCxnSpPr/>
            <p:nvPr/>
          </p:nvCxnSpPr>
          <p:spPr>
            <a:xfrm flipV="1">
              <a:off x="3628800" y="3206520"/>
              <a:ext cx="992880" cy="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90" name="Group 1"/>
            <p:cNvGrpSpPr/>
            <p:nvPr/>
          </p:nvGrpSpPr>
          <p:grpSpPr>
            <a:xfrm>
              <a:off x="1692000" y="2976120"/>
              <a:ext cx="869040" cy="866520"/>
              <a:chOff x="1692000" y="2976120"/>
              <a:chExt cx="869040" cy="866520"/>
            </a:xfrm>
          </p:grpSpPr>
          <p:grpSp>
            <p:nvGrpSpPr>
              <p:cNvPr id="91" name="Group 146"/>
              <p:cNvGrpSpPr/>
              <p:nvPr/>
            </p:nvGrpSpPr>
            <p:grpSpPr>
              <a:xfrm>
                <a:off x="1692000" y="2976120"/>
                <a:ext cx="869040" cy="866520"/>
                <a:chOff x="1692000" y="2976120"/>
                <a:chExt cx="869040" cy="866520"/>
              </a:xfrm>
            </p:grpSpPr>
            <p:sp>
              <p:nvSpPr>
                <p:cNvPr id="92" name="TextBox 23"/>
                <p:cNvSpPr/>
                <p:nvPr/>
              </p:nvSpPr>
              <p:spPr>
                <a:xfrm>
                  <a:off x="1692000" y="3261960"/>
                  <a:ext cx="8690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3</a:t>
                  </a:r>
                  <a:r>
                    <a:rPr b="1" lang="en-ID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 x 24 jam</a:t>
                  </a:r>
                  <a:r>
                    <a:rPr b="1" lang="en-US" sz="800" spc="-1" strike="noStrike">
                      <a:solidFill>
                        <a:srgbClr val="000000"/>
                      </a:solidFill>
                      <a:latin typeface="Cambria"/>
                      <a:ea typeface="Cambria"/>
                    </a:rPr>
                    <a:t> sejak diumumkan KPU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TextBox 23"/>
                <p:cNvSpPr/>
                <p:nvPr/>
              </p:nvSpPr>
              <p:spPr>
                <a:xfrm>
                  <a:off x="1986480" y="2976120"/>
                  <a:ext cx="2386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c00000"/>
                      </a:solidFill>
                      <a:latin typeface="Cambria"/>
                      <a:ea typeface="Cambria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94" name="Straight Arrow Connector 92"/>
              <p:cNvCxnSpPr/>
              <p:nvPr/>
            </p:nvCxnSpPr>
            <p:spPr>
              <a:xfrm>
                <a:off x="1775880" y="3234960"/>
                <a:ext cx="762840" cy="108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  <p:sp>
          <p:nvSpPr>
            <p:cNvPr id="95" name="TextBox 22"/>
            <p:cNvSpPr/>
            <p:nvPr/>
          </p:nvSpPr>
          <p:spPr>
            <a:xfrm flipH="1">
              <a:off x="8008200" y="4503960"/>
              <a:ext cx="2602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2"/>
            <p:cNvSpPr/>
            <p:nvPr/>
          </p:nvSpPr>
          <p:spPr>
            <a:xfrm>
              <a:off x="5005440" y="2594160"/>
              <a:ext cx="31428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22"/>
            <p:cNvSpPr/>
            <p:nvPr/>
          </p:nvSpPr>
          <p:spPr>
            <a:xfrm>
              <a:off x="7199280" y="4241880"/>
              <a:ext cx="20304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c00000"/>
                  </a:solidFill>
                  <a:latin typeface="Calibri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66"/>
            <p:cNvSpPr/>
            <p:nvPr/>
          </p:nvSpPr>
          <p:spPr>
            <a:xfrm>
              <a:off x="2539800" y="3402000"/>
              <a:ext cx="1112760" cy="3794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5 - 18 Feb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0 - 23 Mrt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le 124"/>
            <p:cNvSpPr/>
            <p:nvPr/>
          </p:nvSpPr>
          <p:spPr>
            <a:xfrm>
              <a:off x="5308560" y="5426280"/>
              <a:ext cx="893520" cy="31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2 April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(pen</a:t>
              </a:r>
              <a:r>
                <a:rPr b="1" lang="en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erbitan</a:t>
              </a:r>
              <a:r>
                <a:rPr b="1" lang="id-ID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)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le 131"/>
            <p:cNvSpPr/>
            <p:nvPr/>
          </p:nvSpPr>
          <p:spPr>
            <a:xfrm>
              <a:off x="7232760" y="4167360"/>
              <a:ext cx="1306440" cy="363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rsiapan Registras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7 - 22 April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" name="Straight Arrow Connector 69"/>
            <p:cNvCxnSpPr/>
            <p:nvPr/>
          </p:nvCxnSpPr>
          <p:spPr>
            <a:xfrm>
              <a:off x="7875720" y="4506840"/>
              <a:ext cx="8640" cy="284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2" name="Rectangle 70"/>
            <p:cNvSpPr/>
            <p:nvPr/>
          </p:nvSpPr>
          <p:spPr>
            <a:xfrm>
              <a:off x="2854080" y="4672800"/>
              <a:ext cx="412560" cy="20520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AP</a:t>
              </a: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" name="Straight Arrow Connector 71"/>
            <p:cNvCxnSpPr/>
            <p:nvPr/>
          </p:nvCxnSpPr>
          <p:spPr>
            <a:xfrm>
              <a:off x="3060360" y="3819240"/>
              <a:ext cx="2160" cy="286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4" name="Oval 72"/>
            <p:cNvSpPr/>
            <p:nvPr/>
          </p:nvSpPr>
          <p:spPr>
            <a:xfrm>
              <a:off x="1002960" y="5432760"/>
              <a:ext cx="1604880" cy="649080"/>
            </a:xfrm>
            <a:prstGeom prst="ellipse">
              <a:avLst/>
            </a:prstGeom>
            <a:solidFill>
              <a:srgbClr val="ffc000"/>
            </a:solidFill>
            <a:ln w="9360">
              <a:solidFill>
                <a:srgbClr val="fd946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rmohonan dapat diakses melalui laman MK (mkri.Id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3"/>
            <p:cNvSpPr/>
            <p:nvPr/>
          </p:nvSpPr>
          <p:spPr>
            <a:xfrm>
              <a:off x="2806560" y="4158360"/>
              <a:ext cx="514080" cy="205200"/>
            </a:xfrm>
            <a:prstGeom prst="rect">
              <a:avLst/>
            </a:prstGeom>
            <a:solidFill>
              <a:srgbClr val="00b05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e-BP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Straight Arrow Connector 74"/>
            <p:cNvCxnSpPr/>
            <p:nvPr/>
          </p:nvCxnSpPr>
          <p:spPr>
            <a:xfrm>
              <a:off x="3069720" y="4417920"/>
              <a:ext cx="1080" cy="2242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7" name="TextBox 22"/>
            <p:cNvSpPr/>
            <p:nvPr/>
          </p:nvSpPr>
          <p:spPr>
            <a:xfrm>
              <a:off x="6589800" y="5032440"/>
              <a:ext cx="14760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6"/>
            <p:cNvSpPr/>
            <p:nvPr/>
          </p:nvSpPr>
          <p:spPr>
            <a:xfrm>
              <a:off x="2206440" y="2405880"/>
              <a:ext cx="1089000" cy="24624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MOH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9" name="Elbow Connector 69"/>
            <p:cNvCxnSpPr>
              <a:stCxn id="81" idx="1"/>
              <a:endCxn id="108" idx="1"/>
            </p:cNvCxnSpPr>
            <p:nvPr/>
          </p:nvCxnSpPr>
          <p:spPr>
            <a:xfrm rot="10800000">
              <a:off x="2205720" y="2528280"/>
              <a:ext cx="3245400" cy="2763000"/>
            </a:xfrm>
            <a:prstGeom prst="bentConnector3">
              <a:avLst>
                <a:gd name="adj1" fmla="val 154138"/>
              </a:avLst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0" name="Straight Arrow Connector 78"/>
            <p:cNvCxnSpPr/>
            <p:nvPr/>
          </p:nvCxnSpPr>
          <p:spPr>
            <a:xfrm flipH="1">
              <a:off x="7875000" y="3908520"/>
              <a:ext cx="5400" cy="226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1" name="Straight Arrow Connector 79"/>
            <p:cNvCxnSpPr>
              <a:stCxn id="88" idx="1"/>
            </p:cNvCxnSpPr>
            <p:nvPr/>
          </p:nvCxnSpPr>
          <p:spPr>
            <a:xfrm flipH="1">
              <a:off x="6028920" y="5276880"/>
              <a:ext cx="13485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2" name="Rectangle 264"/>
            <p:cNvSpPr/>
            <p:nvPr/>
          </p:nvSpPr>
          <p:spPr>
            <a:xfrm>
              <a:off x="7794720" y="2463840"/>
              <a:ext cx="17136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64"/>
            <p:cNvSpPr/>
            <p:nvPr/>
          </p:nvSpPr>
          <p:spPr>
            <a:xfrm>
              <a:off x="8030160" y="3819600"/>
              <a:ext cx="17460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6280" bIns="26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0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Elbow Connector 60"/>
            <p:cNvCxnSpPr>
              <a:stCxn id="102" idx="2"/>
              <a:endCxn id="108" idx="1"/>
            </p:cNvCxnSpPr>
            <p:nvPr/>
          </p:nvCxnSpPr>
          <p:spPr>
            <a:xfrm flipV="1" rot="16200000">
              <a:off x="1451880" y="3282480"/>
              <a:ext cx="2363040" cy="854640"/>
            </a:xfrm>
            <a:prstGeom prst="bentConnector4">
              <a:avLst>
                <a:gd name="adj1" fmla="val -7313"/>
                <a:gd name="adj2" fmla="val 276106"/>
              </a:avLst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grpSp>
          <p:nvGrpSpPr>
            <p:cNvPr id="115" name="Group 3"/>
            <p:cNvGrpSpPr/>
            <p:nvPr/>
          </p:nvGrpSpPr>
          <p:grpSpPr>
            <a:xfrm>
              <a:off x="4603680" y="2854440"/>
              <a:ext cx="2130480" cy="954000"/>
              <a:chOff x="4603680" y="2854440"/>
              <a:chExt cx="2130480" cy="954000"/>
            </a:xfrm>
          </p:grpSpPr>
          <p:sp>
            <p:nvSpPr>
              <p:cNvPr id="116" name="Rectangle 88"/>
              <p:cNvSpPr/>
              <p:nvPr/>
            </p:nvSpPr>
            <p:spPr>
              <a:xfrm>
                <a:off x="4603680" y="3478320"/>
                <a:ext cx="2129040" cy="3301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15 Feb – 18 Feb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c00000"/>
                    </a:solidFill>
                    <a:latin typeface="Cambria"/>
                    <a:ea typeface="Cambria"/>
                  </a:rPr>
                  <a:t>23 Mrt – 26 Mrt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89"/>
              <p:cNvSpPr/>
              <p:nvPr/>
            </p:nvSpPr>
            <p:spPr>
              <a:xfrm>
                <a:off x="5678280" y="2886840"/>
                <a:ext cx="1055880" cy="53964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eriksa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Kelengkapan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 dan Perbaikan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r>
                  <a:rPr b="1" lang="id-ID" sz="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90"/>
              <p:cNvSpPr/>
              <p:nvPr/>
            </p:nvSpPr>
            <p:spPr>
              <a:xfrm>
                <a:off x="4603680" y="2854440"/>
                <a:ext cx="1055880" cy="601560"/>
              </a:xfrm>
              <a:prstGeom prst="rect">
                <a:avLst/>
              </a:prstGeom>
              <a:solidFill>
                <a:srgbClr val="0070c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6280" bIns="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mohon Melengkapi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 dan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Memperbaiki</a:t>
                </a:r>
                <a:br>
                  <a:rPr sz="800"/>
                </a:b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mohona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84"/>
            <p:cNvSpPr/>
            <p:nvPr/>
          </p:nvSpPr>
          <p:spPr>
            <a:xfrm>
              <a:off x="7219800" y="2803680"/>
              <a:ext cx="1328760" cy="661320"/>
            </a:xfrm>
            <a:prstGeom prst="rect">
              <a:avLst/>
            </a:prstGeom>
            <a:solidFill>
              <a:srgbClr val="0070c0"/>
            </a:solidFill>
            <a:ln w="2844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 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nerbitan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Hasil Pemeriksaan Kelengkap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dan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baik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</a:t>
              </a:r>
              <a:r>
                <a:rPr b="1" lang="id-ID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Permohonan</a:t>
              </a:r>
              <a:r>
                <a:rPr b="1" lang="en-US" sz="800" spc="-1" strike="noStrike">
                  <a:solidFill>
                    <a:srgbClr val="ffffff"/>
                  </a:solidFill>
                  <a:latin typeface="Cambria"/>
                  <a:ea typeface="Cambria"/>
                </a:rPr>
                <a:t> Pemoh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0" name="Straight Arrow Connector 85"/>
            <p:cNvCxnSpPr/>
            <p:nvPr/>
          </p:nvCxnSpPr>
          <p:spPr>
            <a:xfrm flipV="1">
              <a:off x="6721560" y="3166920"/>
              <a:ext cx="529200" cy="8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21" name="Rectangle 86"/>
            <p:cNvSpPr/>
            <p:nvPr/>
          </p:nvSpPr>
          <p:spPr>
            <a:xfrm>
              <a:off x="7219800" y="3530520"/>
              <a:ext cx="1328760" cy="339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2560" rIns="52560" tIns="26280" bIns="262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15 Feb  -  18 Feb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00000"/>
                  </a:solidFill>
                  <a:latin typeface="Cambria"/>
                  <a:ea typeface="Cambria"/>
                </a:rPr>
                <a:t>26 Mrt – 27 Mrt 202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23"/>
            <p:cNvSpPr/>
            <p:nvPr/>
          </p:nvSpPr>
          <p:spPr>
            <a:xfrm>
              <a:off x="3649680" y="3219480"/>
              <a:ext cx="895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3</a:t>
              </a:r>
              <a:r>
                <a:rPr b="1" lang="en-ID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x 24 jam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sejak diterima (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offline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/ dikirim (</a:t>
              </a:r>
              <a:r>
                <a:rPr b="1" i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online</a:t>
              </a:r>
              <a:r>
                <a:rPr b="1" lang="en-US" sz="8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 AP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23"/>
          <p:cNvSpPr/>
          <p:nvPr/>
        </p:nvSpPr>
        <p:spPr>
          <a:xfrm>
            <a:off x="3871800" y="4913280"/>
            <a:ext cx="1236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ARP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00000"/>
                </a:solidFill>
                <a:latin typeface="Cambria"/>
                <a:ea typeface="Cambria"/>
              </a:rPr>
              <a:t>22 –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3"/>
          <p:cNvSpPr/>
          <p:nvPr/>
        </p:nvSpPr>
        <p:spPr>
          <a:xfrm>
            <a:off x="663480" y="462924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erbitan dan Penyampaian AP3 </a:t>
            </a: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(15 – 18 Feb 2024,  20 – 23 Mrt 202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2"/>
          <p:cNvSpPr/>
          <p:nvPr/>
        </p:nvSpPr>
        <p:spPr>
          <a:xfrm>
            <a:off x="5005440" y="4981680"/>
            <a:ext cx="14760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3"/>
          <p:cNvSpPr/>
          <p:nvPr/>
        </p:nvSpPr>
        <p:spPr>
          <a:xfrm>
            <a:off x="3279600" y="4100400"/>
            <a:ext cx="22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catatan Permohonan dalam e-BP3 </a:t>
            </a:r>
            <a:r>
              <a:rPr b="1" lang="en-ID" sz="900" spc="-1" strike="noStrike">
                <a:solidFill>
                  <a:srgbClr val="c00000"/>
                </a:solidFill>
                <a:latin typeface="Cambria"/>
                <a:ea typeface="Cambria"/>
              </a:rPr>
              <a:t>(15 – 18 Feb 2024,  20 – 23 Mrt 2024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51408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PENARIKAN KEMB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E161-E9D2-4E2B-92FF-EA709BCABE7B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ounded Rectangle 15"/>
          <p:cNvSpPr/>
          <p:nvPr/>
        </p:nvSpPr>
        <p:spPr>
          <a:xfrm>
            <a:off x="2963880" y="2901600"/>
            <a:ext cx="1373040" cy="711720"/>
          </a:xfrm>
          <a:prstGeom prst="roundRect">
            <a:avLst>
              <a:gd name="adj" fmla="val 16667"/>
            </a:avLst>
          </a:prstGeom>
          <a:solidFill>
            <a:srgbClr val="f1b9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  <a:ea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ounded Rectangle 8"/>
          <p:cNvSpPr/>
          <p:nvPr/>
        </p:nvSpPr>
        <p:spPr>
          <a:xfrm>
            <a:off x="3056040" y="4686840"/>
            <a:ext cx="1263600" cy="7117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Sete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5773680" y="3853080"/>
            <a:ext cx="2616120" cy="642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Ketetap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Cambria"/>
              </a:rPr>
              <a:t>Penarikan Kemb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5545080" y="4519080"/>
            <a:ext cx="314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disertai dengan pengembalian berkas permoho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ight Arrow 20"/>
          <p:cNvSpPr/>
          <p:nvPr/>
        </p:nvSpPr>
        <p:spPr>
          <a:xfrm>
            <a:off x="4842000" y="3917880"/>
            <a:ext cx="750600" cy="49860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c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urved Right Arrow 21"/>
          <p:cNvSpPr/>
          <p:nvPr/>
        </p:nvSpPr>
        <p:spPr>
          <a:xfrm rot="16200000">
            <a:off x="2261160" y="4615200"/>
            <a:ext cx="800280" cy="2442960"/>
          </a:xfrm>
          <a:custGeom>
            <a:avLst/>
            <a:gdLst>
              <a:gd name="textAreaLeft" fmla="*/ 106920 w 800280"/>
              <a:gd name="textAreaRight" fmla="*/ 693360 w 800280"/>
              <a:gd name="textAreaTop" fmla="*/ 535680 h 2442960"/>
              <a:gd name="textAreaBottom" fmla="*/ 1807200 h 24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474" stAng="-5400000" swAng="-5400000"/>
                <a:lnTo>
                  <a:pt x="0" y="11243"/>
                </a:lnTo>
                <a:arcTo wR="21600" hR="9474" stAng="10800000" swAng="-3758904"/>
                <a:lnTo>
                  <a:pt x="16821" y="21365"/>
                </a:lnTo>
                <a:lnTo>
                  <a:pt x="21600" y="19832"/>
                </a:lnTo>
                <a:lnTo>
                  <a:pt x="16821" y="17828"/>
                </a:lnTo>
                <a:lnTo>
                  <a:pt x="16821" y="18712"/>
                </a:lnTo>
                <a:arcTo wR="21600" hR="9474" stAng="7041096" swAng="3617594"/>
                <a:lnTo>
                  <a:pt x="94" y="10358"/>
                </a:lnTo>
                <a:arcTo wR="21600" hR="9474" stAng="-10658689" swAng="5258689"/>
                <a:close/>
              </a:path>
              <a:path fill="darkenLess" w="21600" h="21600">
                <a:moveTo>
                  <a:pt x="21600" y="0"/>
                </a:moveTo>
                <a:arcTo wR="21600" hR="9474" stAng="-5400000" swAng="-5400000"/>
                <a:lnTo>
                  <a:pt x="0" y="9474"/>
                </a:lnTo>
                <a:arcTo wR="21600" hR="9474" stAng="10800000" swAng="-141311"/>
                <a:lnTo>
                  <a:pt x="94" y="10358"/>
                </a:lnTo>
                <a:arcTo wR="21600" hR="9474" stAng="-10658689" swAng="5258689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urved Left Arrow 22"/>
          <p:cNvSpPr/>
          <p:nvPr/>
        </p:nvSpPr>
        <p:spPr>
          <a:xfrm rot="16200000">
            <a:off x="2198520" y="1292040"/>
            <a:ext cx="812880" cy="2305080"/>
          </a:xfrm>
          <a:custGeom>
            <a:avLst/>
            <a:gdLst>
              <a:gd name="textAreaLeft" fmla="*/ 108720 w 812880"/>
              <a:gd name="textAreaRight" fmla="*/ 704160 w 812880"/>
              <a:gd name="textAreaTop" fmla="*/ 500040 h 2305080"/>
              <a:gd name="textAreaBottom" fmla="*/ 170352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3554636"/>
                <a:lnTo>
                  <a:pt x="5400" y="21302"/>
                </a:lnTo>
                <a:lnTo>
                  <a:pt x="0" y="19696"/>
                </a:lnTo>
                <a:lnTo>
                  <a:pt x="5400" y="17494"/>
                </a:lnTo>
                <a:lnTo>
                  <a:pt x="5400" y="18446"/>
                </a:lnTo>
                <a:arcTo wR="21600" hR="9372" stAng="3554636" swAng="-3402433"/>
                <a:lnTo>
                  <a:pt x="21488" y="10324"/>
                </a:lnTo>
                <a:arcTo wR="21600" hR="9372" stAng="-152204" swAng="-5247796"/>
                <a:close/>
              </a:path>
              <a:path fill="darkenLess" w="21600" h="21600">
                <a:moveTo>
                  <a:pt x="0" y="0"/>
                </a:moveTo>
                <a:arcTo wR="21600" hR="9372" stAng="-5400000" swAng="5400000"/>
                <a:lnTo>
                  <a:pt x="21600" y="11276"/>
                </a:lnTo>
                <a:arcTo wR="21600" hR="9372" stAng="0" swAng="-152204"/>
                <a:lnTo>
                  <a:pt x="21488" y="10324"/>
                </a:lnTo>
                <a:arcTo wR="21600" hR="9372" stAng="-152204" swAng="-5247796"/>
                <a:close/>
              </a:path>
            </a:pathLst>
          </a:custGeom>
          <a:solidFill>
            <a:srgbClr val="92d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4"/>
          <p:cNvGrpSpPr/>
          <p:nvPr/>
        </p:nvGrpSpPr>
        <p:grpSpPr>
          <a:xfrm>
            <a:off x="299880" y="2925720"/>
            <a:ext cx="2617560" cy="2431800"/>
            <a:chOff x="299880" y="2925720"/>
            <a:chExt cx="2617560" cy="2431800"/>
          </a:xfrm>
        </p:grpSpPr>
        <p:sp>
          <p:nvSpPr>
            <p:cNvPr id="137" name="Oval 25"/>
            <p:cNvSpPr/>
            <p:nvPr/>
          </p:nvSpPr>
          <p:spPr>
            <a:xfrm>
              <a:off x="299880" y="2925720"/>
              <a:ext cx="2617560" cy="243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c33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6"/>
            <p:cNvSpPr/>
            <p:nvPr/>
          </p:nvSpPr>
          <p:spPr>
            <a:xfrm>
              <a:off x="299880" y="2925720"/>
              <a:ext cx="2617560" cy="2431800"/>
            </a:xfrm>
            <a:prstGeom prst="ellipse">
              <a:avLst/>
            </a:prstGeom>
            <a:gradFill rotWithShape="0">
              <a:gsLst>
                <a:gs pos="0">
                  <a:srgbClr val="db714d"/>
                </a:gs>
                <a:gs pos="100000">
                  <a:srgbClr val="cc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7"/>
            <p:cNvSpPr/>
            <p:nvPr/>
          </p:nvSpPr>
          <p:spPr>
            <a:xfrm>
              <a:off x="469440" y="3083400"/>
              <a:ext cx="2276280" cy="2127960"/>
            </a:xfrm>
            <a:prstGeom prst="ellipse">
              <a:avLst/>
            </a:prstGeom>
            <a:gradFill rotWithShape="0">
              <a:gsLst>
                <a:gs pos="0">
                  <a:srgbClr val="6e1c00"/>
                </a:gs>
                <a:gs pos="50000">
                  <a:srgbClr val="cc3300"/>
                </a:gs>
                <a:gs pos="100000">
                  <a:srgbClr val="6e1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8"/>
            <p:cNvSpPr/>
            <p:nvPr/>
          </p:nvSpPr>
          <p:spPr>
            <a:xfrm>
              <a:off x="469440" y="3083400"/>
              <a:ext cx="2276280" cy="21279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6319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9"/>
            <p:cNvSpPr/>
            <p:nvPr/>
          </p:nvSpPr>
          <p:spPr>
            <a:xfrm>
              <a:off x="585000" y="3190680"/>
              <a:ext cx="2043720" cy="1900440"/>
            </a:xfrm>
            <a:prstGeom prst="ellipse">
              <a:avLst/>
            </a:prstGeom>
            <a:gradFill rotWithShape="0">
              <a:gsLst>
                <a:gs pos="0">
                  <a:srgbClr val="5e1800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"/>
          <p:cNvSpPr/>
          <p:nvPr/>
        </p:nvSpPr>
        <p:spPr>
          <a:xfrm>
            <a:off x="144360" y="3629160"/>
            <a:ext cx="292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Penarikan kembal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secara tertulis</a:t>
            </a:r>
            <a:r>
              <a:rPr b="1" lang="en-ID" sz="1600" spc="-1" strike="noStrike">
                <a:solidFill>
                  <a:srgbClr val="ffffff"/>
                </a:solidFill>
                <a:latin typeface="Cambria"/>
              </a:rPr>
              <a:t> atau lisan</a:t>
            </a:r>
            <a:r>
              <a:rPr b="1" lang="id-ID" sz="1600" spc="-1" strike="noStrike">
                <a:solidFill>
                  <a:srgbClr val="ffffff"/>
                </a:solidFill>
                <a:latin typeface="Cambria"/>
              </a:rPr>
              <a:t> paling lama pada sidang terakh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1"/>
          <p:cNvSpPr/>
          <p:nvPr/>
        </p:nvSpPr>
        <p:spPr>
          <a:xfrm>
            <a:off x="4133880" y="3257640"/>
            <a:ext cx="527040" cy="1833480"/>
          </a:xfrm>
          <a:custGeom>
            <a:avLst/>
            <a:gdLst/>
            <a:ahLst/>
            <a:rect l="l" t="t" r="r" b="b"/>
            <a:pathLst>
              <a:path stroke="0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  <a:lnTo>
                  <a:pt x="263525" y="916782"/>
                </a:lnTo>
                <a:lnTo>
                  <a:pt x="263525" y="0"/>
                </a:lnTo>
                <a:close/>
              </a:path>
              <a:path fill="none" w="527050" h="1833563">
                <a:moveTo>
                  <a:pt x="263525" y="0"/>
                </a:moveTo>
                <a:cubicBezTo>
                  <a:pt x="408483" y="0"/>
                  <a:pt x="526224" y="407296"/>
                  <a:pt x="527046" y="911583"/>
                </a:cubicBezTo>
                <a:cubicBezTo>
                  <a:pt x="527796" y="1371681"/>
                  <a:pt x="430402" y="1762445"/>
                  <a:pt x="299376" y="182504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5877000" y="2964600"/>
            <a:ext cx="2512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Pengucapan  Ketetapan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0 – 22 Mei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 atau                         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4 – 5 Juni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2833560" y="382500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800" spc="-1" strike="noStrike">
                <a:solidFill>
                  <a:srgbClr val="000000"/>
                </a:solidFill>
                <a:latin typeface="Cambria"/>
              </a:rPr>
              <a:t>e-BRPK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id-ID" sz="1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1" lang="en-ID" sz="1600" spc="-1" strike="noStrike">
                <a:solidFill>
                  <a:srgbClr val="c00000"/>
                </a:solidFill>
                <a:latin typeface="Cambria"/>
              </a:rPr>
              <a:t>22 April 2024</a:t>
            </a:r>
            <a:r>
              <a:rPr b="0" lang="en-ID" sz="16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0" y="331200"/>
            <a:ext cx="9361440" cy="11919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NYAMPAIAN SALINAN PERMOHONAN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MBERITAHUAN HARI SIDANG PERTAMA</a:t>
            </a: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DAN PENGAJUAN PERMOHONAN PIHAK TERK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9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F196-DCE6-4D20-BC92-F603CD2FACD5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Arrow Connector 43"/>
          <p:cNvCxnSpPr/>
          <p:nvPr/>
        </p:nvCxnSpPr>
        <p:spPr>
          <a:xfrm flipV="1">
            <a:off x="1370160" y="4279320"/>
            <a:ext cx="489600" cy="6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Rectangle 63"/>
          <p:cNvSpPr/>
          <p:nvPr/>
        </p:nvSpPr>
        <p:spPr>
          <a:xfrm>
            <a:off x="3808440" y="4032720"/>
            <a:ext cx="1049400" cy="246240"/>
          </a:xfrm>
          <a:prstGeom prst="rect">
            <a:avLst/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  <a:ea typeface="Cambria"/>
              </a:rPr>
              <a:t>TER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4"/>
          <p:cNvSpPr/>
          <p:nvPr/>
        </p:nvSpPr>
        <p:spPr>
          <a:xfrm>
            <a:off x="1871640" y="3930480"/>
            <a:ext cx="1576440" cy="39852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000" spc="-1" strike="noStrike">
                <a:solidFill>
                  <a:srgbClr val="ffffff"/>
                </a:solidFill>
                <a:latin typeface="Cambria"/>
              </a:rPr>
              <a:t>Penyampaian Salinan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5173560" y="2676600"/>
            <a:ext cx="30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Paling cepat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5</a:t>
            </a: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 setelah Permohonan Pemohon dicatat dalam e-BRPK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6"/>
          <p:cNvSpPr/>
          <p:nvPr/>
        </p:nvSpPr>
        <p:spPr>
          <a:xfrm>
            <a:off x="217440" y="3697200"/>
            <a:ext cx="1152720" cy="12636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67"/>
          <p:cNvSpPr/>
          <p:nvPr/>
        </p:nvSpPr>
        <p:spPr>
          <a:xfrm>
            <a:off x="216000" y="4290840"/>
            <a:ext cx="11811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Elbow Connector 35"/>
          <p:cNvCxnSpPr/>
          <p:nvPr/>
        </p:nvCxnSpPr>
        <p:spPr>
          <a:xfrm>
            <a:off x="4919400" y="3114360"/>
            <a:ext cx="3423240" cy="29916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grpSp>
        <p:nvGrpSpPr>
          <p:cNvPr id="155" name="Group 69"/>
          <p:cNvGrpSpPr/>
          <p:nvPr/>
        </p:nvGrpSpPr>
        <p:grpSpPr>
          <a:xfrm>
            <a:off x="693720" y="2630520"/>
            <a:ext cx="8435880" cy="2770200"/>
            <a:chOff x="693720" y="2630520"/>
            <a:chExt cx="8435880" cy="2770200"/>
          </a:xfrm>
        </p:grpSpPr>
        <p:grpSp>
          <p:nvGrpSpPr>
            <p:cNvPr id="156" name="Group 70"/>
            <p:cNvGrpSpPr/>
            <p:nvPr/>
          </p:nvGrpSpPr>
          <p:grpSpPr>
            <a:xfrm>
              <a:off x="693720" y="2630520"/>
              <a:ext cx="4236480" cy="1054800"/>
              <a:chOff x="693720" y="2630520"/>
              <a:chExt cx="4236480" cy="1054800"/>
            </a:xfrm>
          </p:grpSpPr>
          <p:sp>
            <p:nvSpPr>
              <p:cNvPr id="157" name="TextBox 79"/>
              <p:cNvSpPr/>
              <p:nvPr/>
            </p:nvSpPr>
            <p:spPr>
              <a:xfrm>
                <a:off x="3187800" y="2705040"/>
                <a:ext cx="1670040" cy="864360"/>
              </a:xfrm>
              <a:prstGeom prst="rect">
                <a:avLst/>
              </a:prstGeom>
              <a:solidFill>
                <a:srgbClr val="ffc000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462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emoh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Termoh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Bawaslu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8" name="Rectangle 80"/>
              <p:cNvGrpSpPr/>
              <p:nvPr/>
            </p:nvGrpSpPr>
            <p:grpSpPr>
              <a:xfrm>
                <a:off x="3121200" y="2663640"/>
                <a:ext cx="1809000" cy="567000"/>
                <a:chOff x="3121200" y="2663640"/>
                <a:chExt cx="1809000" cy="567000"/>
              </a:xfrm>
            </p:grpSpPr>
            <p:pic>
              <p:nvPicPr>
                <p:cNvPr id="159" name="Rectangle 80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121200" y="2663640"/>
                  <a:ext cx="1809000" cy="56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0" name=""/>
                <p:cNvSpPr/>
                <p:nvPr/>
              </p:nvSpPr>
              <p:spPr>
                <a:xfrm>
                  <a:off x="3187440" y="2704320"/>
                  <a:ext cx="1669320" cy="40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Pemberitahua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d-ID" sz="1000" spc="-1" strike="noStrike">
                      <a:solidFill>
                        <a:srgbClr val="ffffff"/>
                      </a:solidFill>
                      <a:latin typeface="Cambria"/>
                      <a:ea typeface="Cambria"/>
                    </a:rPr>
                    <a:t>Hari Sidang Pertam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Rectangle 48"/>
              <p:cNvSpPr/>
              <p:nvPr/>
            </p:nvSpPr>
            <p:spPr>
              <a:xfrm>
                <a:off x="693720" y="2630520"/>
                <a:ext cx="2519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Paling lam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1 hari setelah BRPK atau 3</a:t>
                </a:r>
                <a:r>
                  <a:rPr b="1" lang="id-ID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 </a:t>
                </a:r>
                <a:r>
                  <a:rPr b="1" lang="id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hari kerja </a:t>
                </a:r>
                <a:r>
                  <a:rPr b="1" lang="en-ID" sz="900" spc="-1" strike="noStrike">
                    <a:solidFill>
                      <a:srgbClr val="000000"/>
                    </a:solidFill>
                    <a:latin typeface="Cambria"/>
                    <a:ea typeface="Cambria"/>
                  </a:rPr>
                  <a:t>sebelum Pemeriksaan Pendahulua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0000"/>
                    </a:solidFill>
                    <a:latin typeface="Cambria"/>
                    <a:ea typeface="Cambria"/>
                  </a:rPr>
                  <a:t>23 - 25 Apr 202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81000" indent="-8100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Straight Connector 34"/>
              <p:cNvSpPr/>
              <p:nvPr/>
            </p:nvSpPr>
            <p:spPr>
              <a:xfrm flipH="1" flipV="1">
                <a:off x="3199320" y="3116880"/>
                <a:ext cx="1699200" cy="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3" name="Elbow Connector 35"/>
              <p:cNvCxnSpPr/>
              <p:nvPr/>
            </p:nvCxnSpPr>
            <p:spPr>
              <a:xfrm flipH="1" flipV="1" rot="5400000">
                <a:off x="1713960" y="2211480"/>
                <a:ext cx="552960" cy="23954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</p:cxnSp>
        </p:grpSp>
        <p:grpSp>
          <p:nvGrpSpPr>
            <p:cNvPr id="164" name="Group 71"/>
            <p:cNvGrpSpPr/>
            <p:nvPr/>
          </p:nvGrpSpPr>
          <p:grpSpPr>
            <a:xfrm>
              <a:off x="3491280" y="4389480"/>
              <a:ext cx="1944720" cy="1011240"/>
              <a:chOff x="3491280" y="4389480"/>
              <a:chExt cx="1944720" cy="1011240"/>
            </a:xfrm>
          </p:grpSpPr>
          <p:sp>
            <p:nvSpPr>
              <p:cNvPr id="165" name="Rectangle 47"/>
              <p:cNvSpPr/>
              <p:nvPr/>
            </p:nvSpPr>
            <p:spPr>
              <a:xfrm>
                <a:off x="3491280" y="4941720"/>
                <a:ext cx="1361160" cy="459000"/>
              </a:xfrm>
              <a:prstGeom prst="rect">
                <a:avLst/>
              </a:prstGeom>
              <a:solidFill>
                <a:srgbClr val="0070c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</a:rPr>
                  <a:t>PENGAJUAN PERMOHONAN 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Cambria"/>
                  </a:rPr>
                  <a:t>SEBAGAI </a:t>
                </a:r>
                <a:r>
                  <a:rPr b="1" lang="id-ID" sz="800" spc="-1" strike="noStrike">
                    <a:solidFill>
                      <a:srgbClr val="ffffff"/>
                    </a:solidFill>
                    <a:latin typeface="Cambria"/>
                  </a:rPr>
                  <a:t>PIHAK TERKA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48"/>
              <p:cNvSpPr/>
              <p:nvPr/>
            </p:nvSpPr>
            <p:spPr>
              <a:xfrm>
                <a:off x="3757320" y="4389480"/>
                <a:ext cx="167868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81000" indent="7920"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6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2"/>
            <p:cNvGrpSpPr/>
            <p:nvPr/>
          </p:nvGrpSpPr>
          <p:grpSpPr>
            <a:xfrm>
              <a:off x="7755480" y="3413160"/>
              <a:ext cx="1374120" cy="1146960"/>
              <a:chOff x="7755480" y="3413160"/>
              <a:chExt cx="1374120" cy="1146960"/>
            </a:xfrm>
          </p:grpSpPr>
          <p:sp>
            <p:nvSpPr>
              <p:cNvPr id="168" name="Oval 73"/>
              <p:cNvSpPr/>
              <p:nvPr/>
            </p:nvSpPr>
            <p:spPr>
              <a:xfrm>
                <a:off x="7755480" y="3413160"/>
                <a:ext cx="1374120" cy="1146960"/>
              </a:xfrm>
              <a:prstGeom prst="ellipse">
                <a:avLst/>
              </a:prstGeom>
              <a:solidFill>
                <a:srgbClr val="0070c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Box 74"/>
              <p:cNvSpPr/>
              <p:nvPr/>
            </p:nvSpPr>
            <p:spPr>
              <a:xfrm>
                <a:off x="7850520" y="3517560"/>
                <a:ext cx="11887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d-ID" sz="12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SIDANG</a:t>
                </a:r>
                <a:br>
                  <a:rPr sz="1200"/>
                </a:br>
                <a:r>
                  <a:rPr b="1" lang="id-ID" sz="1200" spc="-1" strike="noStrike">
                    <a:solidFill>
                      <a:srgbClr val="ffffff"/>
                    </a:solidFill>
                    <a:latin typeface="Cambria"/>
                    <a:ea typeface="Cambria"/>
                  </a:rPr>
                  <a:t>PERTAM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Box 75"/>
              <p:cNvSpPr/>
              <p:nvPr/>
            </p:nvSpPr>
            <p:spPr>
              <a:xfrm>
                <a:off x="7890120" y="4032000"/>
                <a:ext cx="118872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Straight Connector 34"/>
              <p:cNvSpPr/>
              <p:nvPr/>
            </p:nvSpPr>
            <p:spPr>
              <a:xfrm flipH="1" flipV="1">
                <a:off x="7768440" y="4033440"/>
                <a:ext cx="133452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Rectangle 84"/>
          <p:cNvSpPr/>
          <p:nvPr/>
        </p:nvSpPr>
        <p:spPr>
          <a:xfrm>
            <a:off x="3808440" y="4283640"/>
            <a:ext cx="1049400" cy="246240"/>
          </a:xfrm>
          <a:prstGeom prst="rect">
            <a:avLst/>
          </a:prstGeom>
          <a:solidFill>
            <a:srgbClr val="c00000"/>
          </a:solidFill>
          <a:ln w="2844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mbria"/>
                <a:ea typeface="Cambria"/>
              </a:rPr>
              <a:t>BAWAS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Elbow Connector 35"/>
          <p:cNvCxnSpPr>
            <a:stCxn id="152" idx="4"/>
          </p:cNvCxnSpPr>
          <p:nvPr/>
        </p:nvCxnSpPr>
        <p:spPr>
          <a:xfrm flipH="1" rot="16200000">
            <a:off x="1947960" y="3804840"/>
            <a:ext cx="421560" cy="273240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74" name="Straight Arrow Connector 43"/>
          <p:cNvCxnSpPr/>
          <p:nvPr/>
        </p:nvCxnSpPr>
        <p:spPr>
          <a:xfrm flipV="1">
            <a:off x="3446280" y="4274280"/>
            <a:ext cx="36252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Rectangle 44"/>
          <p:cNvSpPr/>
          <p:nvPr/>
        </p:nvSpPr>
        <p:spPr>
          <a:xfrm>
            <a:off x="1870200" y="4297320"/>
            <a:ext cx="15764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aling lama 1</a:t>
            </a:r>
            <a:r>
              <a:rPr b="1" lang="id-ID" sz="800" spc="-1" strike="noStrike">
                <a:solidFill>
                  <a:srgbClr val="ff0000"/>
                </a:solidFill>
                <a:latin typeface="Cambria"/>
                <a:ea typeface="Cambria"/>
              </a:rPr>
              <a:t>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hari kerja setelah</a:t>
            </a: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ermohonan dicatat dalam 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2 -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4"/>
          <p:cNvSpPr/>
          <p:nvPr/>
        </p:nvSpPr>
        <p:spPr>
          <a:xfrm>
            <a:off x="3497400" y="5381640"/>
            <a:ext cx="13777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aling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la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2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jak permohonan dicatat dalam 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e-BRP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2 - 23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4"/>
          <p:cNvSpPr/>
          <p:nvPr/>
        </p:nvSpPr>
        <p:spPr>
          <a:xfrm>
            <a:off x="6176880" y="4896000"/>
            <a:ext cx="1577880" cy="474480"/>
          </a:xfrm>
          <a:prstGeom prst="rect">
            <a:avLst/>
          </a:prstGeom>
          <a:solidFill>
            <a:srgbClr val="007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mbria"/>
              </a:rPr>
              <a:t>PEMBERITAHUAN HARI SIDANG PERTAMA KEPADA PIHAK </a:t>
            </a:r>
            <a:r>
              <a:rPr b="1" lang="en-US" sz="900" spc="-1" strike="noStrike">
                <a:solidFill>
                  <a:srgbClr val="ffffff"/>
                </a:solidFill>
                <a:latin typeface="Cambria"/>
              </a:rPr>
              <a:t>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4"/>
          <p:cNvSpPr/>
          <p:nvPr/>
        </p:nvSpPr>
        <p:spPr>
          <a:xfrm>
            <a:off x="6181560" y="5367240"/>
            <a:ext cx="1567080" cy="58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Paling la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ma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3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 hari kerja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sebelum </a:t>
            </a:r>
            <a:r>
              <a:rPr b="1" lang="en-ID" sz="800" spc="-1" strike="noStrike">
                <a:solidFill>
                  <a:srgbClr val="000000"/>
                </a:solidFill>
                <a:latin typeface="Cambria"/>
                <a:ea typeface="Cambria"/>
              </a:rPr>
              <a:t>Pemeriksaan Pendahuluan</a:t>
            </a:r>
            <a:br>
              <a:rPr sz="800"/>
            </a:br>
            <a:r>
              <a:rPr b="1" lang="en-US" sz="800" spc="-1" strike="noStrike">
                <a:solidFill>
                  <a:srgbClr val="ff0000"/>
                </a:solidFill>
                <a:latin typeface="Cambria"/>
                <a:ea typeface="Cambria"/>
              </a:rPr>
              <a:t>23 - 25 Apr 20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Elbow Connector 91"/>
          <p:cNvCxnSpPr/>
          <p:nvPr/>
        </p:nvCxnSpPr>
        <p:spPr>
          <a:xfrm flipV="1">
            <a:off x="7556040" y="4571280"/>
            <a:ext cx="886680" cy="788040"/>
          </a:xfrm>
          <a:prstGeom prst="bentConnector2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80" name="Straight Arrow Connector 43"/>
          <p:cNvCxnSpPr/>
          <p:nvPr/>
        </p:nvCxnSpPr>
        <p:spPr>
          <a:xfrm flipV="1">
            <a:off x="4876920" y="5371920"/>
            <a:ext cx="130392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Rectangle 93"/>
          <p:cNvSpPr/>
          <p:nvPr/>
        </p:nvSpPr>
        <p:spPr>
          <a:xfrm>
            <a:off x="7845480" y="4119480"/>
            <a:ext cx="115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Cambria"/>
                <a:ea typeface="Cambria"/>
              </a:rPr>
              <a:t>26 Apr  - 6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94"/>
          <p:cNvSpPr/>
          <p:nvPr/>
        </p:nvSpPr>
        <p:spPr>
          <a:xfrm>
            <a:off x="272880" y="4395960"/>
            <a:ext cx="106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ambria"/>
                <a:ea typeface="Cambria"/>
              </a:rPr>
              <a:t>22 Mei 2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95"/>
          <p:cNvSpPr/>
          <p:nvPr/>
        </p:nvSpPr>
        <p:spPr>
          <a:xfrm>
            <a:off x="252360" y="3875040"/>
            <a:ext cx="106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mbria"/>
                <a:ea typeface="Cambria"/>
              </a:rPr>
              <a:t>e-BR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5"/>
          <p:cNvSpPr/>
          <p:nvPr/>
        </p:nvSpPr>
        <p:spPr>
          <a:xfrm>
            <a:off x="4608360" y="4726080"/>
            <a:ext cx="1741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  </a:t>
            </a: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Penyampaian Ketetapan Pihak Terk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1000" indent="-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23 - 24 Apr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2"/>
          <p:cNvSpPr/>
          <p:nvPr/>
        </p:nvSpPr>
        <p:spPr>
          <a:xfrm>
            <a:off x="2527200" y="3691080"/>
            <a:ext cx="1429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2"/>
          <p:cNvSpPr/>
          <p:nvPr/>
        </p:nvSpPr>
        <p:spPr>
          <a:xfrm>
            <a:off x="4084560" y="4710240"/>
            <a:ext cx="29376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22"/>
          <p:cNvSpPr/>
          <p:nvPr/>
        </p:nvSpPr>
        <p:spPr>
          <a:xfrm>
            <a:off x="4896000" y="2754360"/>
            <a:ext cx="30132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2"/>
          <p:cNvSpPr/>
          <p:nvPr/>
        </p:nvSpPr>
        <p:spPr>
          <a:xfrm>
            <a:off x="6773760" y="466092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8472600" y="3156120"/>
            <a:ext cx="301680" cy="2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1000" spc="-1" strike="noStrike">
                <a:solidFill>
                  <a:srgbClr val="c00000"/>
                </a:solidFill>
                <a:latin typeface="Cambria"/>
                <a:ea typeface="Cambri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1252440" y="1541520"/>
            <a:ext cx="709308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ID" sz="2000" spc="-1" strike="noStrike">
                <a:solidFill>
                  <a:srgbClr val="c00000"/>
                </a:solidFill>
                <a:latin typeface="Cambria"/>
                <a:ea typeface="Cambria"/>
              </a:rPr>
              <a:t>(</a:t>
            </a:r>
            <a:r>
              <a:rPr b="1" lang="en-ID" sz="2000" spc="-1" strike="noStrike">
                <a:solidFill>
                  <a:srgbClr val="002060"/>
                </a:solidFill>
                <a:latin typeface="Cambria"/>
                <a:ea typeface="Cambria"/>
              </a:rPr>
              <a:t>PHPU ANGGOTA DPR DAN DPRD</a:t>
            </a:r>
            <a:r>
              <a:rPr b="1" lang="en-ID" sz="2000" spc="-1" strike="noStrike">
                <a:solidFill>
                  <a:srgbClr val="c00000"/>
                </a:solidFill>
                <a:latin typeface="Cambria"/>
                <a:ea typeface="Cambr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489240"/>
            <a:ext cx="9361440" cy="826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2400" spc="-1" strike="noStrike">
                <a:solidFill>
                  <a:srgbClr val="ffffff"/>
                </a:solidFill>
                <a:latin typeface="Cambria"/>
                <a:ea typeface="Cambria"/>
              </a:rPr>
              <a:t>MEKANISME PERSIDANGAN </a:t>
            </a:r>
            <a:r>
              <a:rPr b="1" lang="id-ID" sz="2400" spc="-1" strike="noStrike">
                <a:solidFill>
                  <a:srgbClr val="ffffff"/>
                </a:solidFill>
                <a:latin typeface="Cambria"/>
                <a:ea typeface="Cambria"/>
              </a:rPr>
              <a:t>PERK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mbria"/>
                <a:ea typeface="Cambria"/>
              </a:rPr>
              <a:t>PHPU ANGGOTA DPR DAN DP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59"/>
          <p:cNvSpPr/>
          <p:nvPr/>
        </p:nvSpPr>
        <p:spPr>
          <a:xfrm>
            <a:off x="6708600" y="640728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854E-05C6-4C3D-B726-F36707C2692E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Rounded Rectangle 6"/>
          <p:cNvGrpSpPr/>
          <p:nvPr/>
        </p:nvGrpSpPr>
        <p:grpSpPr>
          <a:xfrm>
            <a:off x="244440" y="2041560"/>
            <a:ext cx="1236600" cy="762120"/>
            <a:chOff x="244440" y="2041560"/>
            <a:chExt cx="1236600" cy="762120"/>
          </a:xfrm>
        </p:grpSpPr>
        <p:pic>
          <p:nvPicPr>
            <p:cNvPr id="194" name="Rounded Rectangle 6" descr=""/>
            <p:cNvPicPr/>
            <p:nvPr/>
          </p:nvPicPr>
          <p:blipFill>
            <a:blip r:embed="rId1"/>
            <a:stretch/>
          </p:blipFill>
          <p:spPr>
            <a:xfrm>
              <a:off x="244440" y="2041560"/>
              <a:ext cx="123660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34800" y="2111400"/>
              <a:ext cx="10512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AN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ndahuluan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Rounded Rectangle 7"/>
          <p:cNvGrpSpPr/>
          <p:nvPr/>
        </p:nvGrpSpPr>
        <p:grpSpPr>
          <a:xfrm>
            <a:off x="3200400" y="2170080"/>
            <a:ext cx="695160" cy="536760"/>
            <a:chOff x="3200400" y="2170080"/>
            <a:chExt cx="695160" cy="536760"/>
          </a:xfrm>
        </p:grpSpPr>
        <p:pic>
          <p:nvPicPr>
            <p:cNvPr id="197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3200400" y="2170080"/>
              <a:ext cx="6951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3281400" y="2227320"/>
              <a:ext cx="52848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ounded Rectangle 8"/>
          <p:cNvSpPr/>
          <p:nvPr/>
        </p:nvSpPr>
        <p:spPr>
          <a:xfrm>
            <a:off x="157320" y="3044880"/>
            <a:ext cx="1407960" cy="1739880"/>
          </a:xfrm>
          <a:custGeom>
            <a:avLst/>
            <a:gdLst>
              <a:gd name="textAreaLeft" fmla="*/ 41040 w 1407960"/>
              <a:gd name="textAreaRight" fmla="*/ 1366920 w 1407960"/>
              <a:gd name="textAreaTop" fmla="*/ 41040 h 1739880"/>
              <a:gd name="textAreaBottom" fmla="*/ 1698840 h 1739880"/>
            </a:gdLst>
            <a:ahLst/>
            <a:rect l="textAreaLeft" t="textAreaTop" r="textAreaRight" b="textAreaBottom"/>
            <a:pathLst>
              <a:path w="21600" h="26691">
                <a:moveTo>
                  <a:pt x="2165" y="0"/>
                </a:moveTo>
                <a:arcTo wR="2165" hR="2165" stAng="16200000" swAng="-5400000"/>
                <a:lnTo>
                  <a:pt x="0" y="24526"/>
                </a:lnTo>
                <a:arcTo wR="2165" hR="2165" stAng="10800000" swAng="-5400000"/>
                <a:lnTo>
                  <a:pt x="19435" y="26691"/>
                </a:lnTo>
                <a:arcTo wR="2165" hR="2165" stAng="5400000" swAng="-5400000"/>
                <a:lnTo>
                  <a:pt x="21600" y="2165"/>
                </a:lnTo>
                <a:arcTo wR="2165" hR="2165" stAng="0" swAng="-5400000"/>
                <a:close/>
              </a:path>
            </a:pathLst>
          </a:cu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100" spc="-1" strike="noStrike">
                <a:solidFill>
                  <a:srgbClr val="000000"/>
                </a:solidFill>
                <a:latin typeface="Cambria"/>
                <a:ea typeface="Cambria"/>
              </a:rPr>
              <a:t>memeriksa permohonan Pemohon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meriksa kelengkapan dan kejelasan materi permohon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Cambria"/>
                <a:ea typeface="Cambria"/>
              </a:rPr>
              <a:t>mengesahan alat bukti Pemoh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ounded Rectangle 9"/>
          <p:cNvSpPr/>
          <p:nvPr/>
        </p:nvSpPr>
        <p:spPr>
          <a:xfrm>
            <a:off x="1719360" y="3044880"/>
            <a:ext cx="1252440" cy="2211480"/>
          </a:xfrm>
          <a:custGeom>
            <a:avLst/>
            <a:gdLst>
              <a:gd name="textAreaLeft" fmla="*/ 36720 w 1252440"/>
              <a:gd name="textAreaRight" fmla="*/ 1215720 w 1252440"/>
              <a:gd name="textAreaTop" fmla="*/ 36720 h 2211480"/>
              <a:gd name="textAreaBottom" fmla="*/ 2174760 h 2211480"/>
            </a:gdLst>
            <a:ahLst/>
            <a:rect l="textAreaLeft" t="textAreaTop" r="textAreaRight" b="textAreaBottom"/>
            <a:pathLst>
              <a:path w="21600" h="38135">
                <a:moveTo>
                  <a:pt x="2164" y="0"/>
                </a:moveTo>
                <a:arcTo wR="2164" hR="2164" stAng="16200000" swAng="-5400000"/>
                <a:lnTo>
                  <a:pt x="0" y="35971"/>
                </a:lnTo>
                <a:arcTo wR="2164" hR="2164" stAng="10800000" swAng="-5400000"/>
                <a:lnTo>
                  <a:pt x="19436" y="38135"/>
                </a:lnTo>
                <a:arcTo wR="2164" hR="2164" stAng="5400000" swAng="-5400000"/>
                <a:lnTo>
                  <a:pt x="21600" y="2164"/>
                </a:lnTo>
                <a:arcTo wR="2164" hR="2164" stAng="0" swAng="-5400000"/>
                <a:close/>
              </a:path>
            </a:pathLst>
          </a:cu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Jawaban Termohon, Keterangan Pihak Terkait, dan/atau Keterangan Bawaslu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gesahkan alat buk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tertuli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ounded Rectangle 10"/>
          <p:cNvSpPr/>
          <p:nvPr/>
        </p:nvSpPr>
        <p:spPr>
          <a:xfrm>
            <a:off x="5489640" y="3127320"/>
            <a:ext cx="1301760" cy="982800"/>
          </a:xfrm>
          <a:prstGeom prst="roundRect">
            <a:avLst>
              <a:gd name="adj" fmla="val 12981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saksi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ndengarkan keterangan ahli;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35000" indent="-135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900" spc="-1" strike="noStrike">
                <a:solidFill>
                  <a:srgbClr val="000000"/>
                </a:solidFill>
                <a:latin typeface="Cambria"/>
                <a:ea typeface="Cambria"/>
              </a:rPr>
              <a:t>memeriksa alat bukti la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ounded Rectangle 11"/>
          <p:cNvSpPr/>
          <p:nvPr/>
        </p:nvSpPr>
        <p:spPr>
          <a:xfrm>
            <a:off x="3062160" y="3056040"/>
            <a:ext cx="971640" cy="639720"/>
          </a:xfrm>
          <a:prstGeom prst="roundRect">
            <a:avLst>
              <a:gd name="adj" fmla="val 1121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12"/>
          <p:cNvSpPr/>
          <p:nvPr/>
        </p:nvSpPr>
        <p:spPr>
          <a:xfrm>
            <a:off x="6945480" y="3157560"/>
            <a:ext cx="931680" cy="615960"/>
          </a:xfrm>
          <a:prstGeom prst="roundRect">
            <a:avLst>
              <a:gd name="adj" fmla="val 11838"/>
            </a:avLst>
          </a:prstGeom>
          <a:solidFill>
            <a:srgbClr val="92d050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1" lang="en-AU" sz="800" spc="-1" strike="noStrike">
                <a:solidFill>
                  <a:srgbClr val="000000"/>
                </a:solidFill>
                <a:latin typeface="Cambria"/>
                <a:ea typeface="Cambria"/>
              </a:rPr>
              <a:t>Pembahasan perkara dan pengambilan putus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ounded Rectangle 13"/>
          <p:cNvSpPr/>
          <p:nvPr/>
        </p:nvSpPr>
        <p:spPr>
          <a:xfrm>
            <a:off x="4224240" y="3102120"/>
            <a:ext cx="978120" cy="515880"/>
          </a:xfrm>
          <a:prstGeom prst="roundRect">
            <a:avLst>
              <a:gd name="adj" fmla="val 11875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(Pengucapan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utusan/ Ketetapan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ight Arrow 14"/>
          <p:cNvSpPr/>
          <p:nvPr/>
        </p:nvSpPr>
        <p:spPr>
          <a:xfrm>
            <a:off x="1459080" y="2287440"/>
            <a:ext cx="307800" cy="27468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5"/>
          <p:cNvSpPr/>
          <p:nvPr/>
        </p:nvSpPr>
        <p:spPr>
          <a:xfrm>
            <a:off x="3546360" y="2624040"/>
            <a:ext cx="1800" cy="4320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Rounded Rectangle 16"/>
          <p:cNvGrpSpPr/>
          <p:nvPr/>
        </p:nvGrpSpPr>
        <p:grpSpPr>
          <a:xfrm>
            <a:off x="1725480" y="2041560"/>
            <a:ext cx="1236960" cy="762120"/>
            <a:chOff x="1725480" y="2041560"/>
            <a:chExt cx="1236960" cy="762120"/>
          </a:xfrm>
        </p:grpSpPr>
        <p:pic>
          <p:nvPicPr>
            <p:cNvPr id="208" name="Rounded Rectangle 16" descr=""/>
            <p:cNvPicPr/>
            <p:nvPr/>
          </p:nvPicPr>
          <p:blipFill>
            <a:blip r:embed="rId3"/>
            <a:stretch/>
          </p:blipFill>
          <p:spPr>
            <a:xfrm>
              <a:off x="1725480" y="2041560"/>
              <a:ext cx="12369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1816200" y="2111400"/>
              <a:ext cx="1052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AU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AN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rsidang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Rounded Rectangle 17"/>
          <p:cNvGrpSpPr/>
          <p:nvPr/>
        </p:nvGrpSpPr>
        <p:grpSpPr>
          <a:xfrm>
            <a:off x="5516640" y="1974960"/>
            <a:ext cx="1231920" cy="933480"/>
            <a:chOff x="5516640" y="1974960"/>
            <a:chExt cx="1231920" cy="933480"/>
          </a:xfrm>
        </p:grpSpPr>
        <p:pic>
          <p:nvPicPr>
            <p:cNvPr id="211" name="Rounded Rectangle 17" descr=""/>
            <p:cNvPicPr/>
            <p:nvPr/>
          </p:nvPicPr>
          <p:blipFill>
            <a:blip r:embed="rId4"/>
            <a:stretch/>
          </p:blipFill>
          <p:spPr>
            <a:xfrm>
              <a:off x="5516640" y="1974960"/>
              <a:ext cx="12319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614920" y="2048040"/>
              <a:ext cx="1035000" cy="73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r>
                <a:rPr b="1" lang="en-US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(Pemeriksaan Persidangan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Lanjutan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Rounded Rectangle 18"/>
          <p:cNvGrpSpPr/>
          <p:nvPr/>
        </p:nvGrpSpPr>
        <p:grpSpPr>
          <a:xfrm>
            <a:off x="7047000" y="2146320"/>
            <a:ext cx="695160" cy="536400"/>
            <a:chOff x="7047000" y="2146320"/>
            <a:chExt cx="695160" cy="536400"/>
          </a:xfrm>
        </p:grpSpPr>
        <p:pic>
          <p:nvPicPr>
            <p:cNvPr id="214" name="Rounded Rectangle 18" descr=""/>
            <p:cNvPicPr/>
            <p:nvPr/>
          </p:nvPicPr>
          <p:blipFill>
            <a:blip r:embed="rId5"/>
            <a:stretch/>
          </p:blipFill>
          <p:spPr>
            <a:xfrm>
              <a:off x="7047000" y="2146320"/>
              <a:ext cx="69516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126200" y="2201760"/>
              <a:ext cx="52884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ffffff"/>
                  </a:solidFill>
                  <a:latin typeface="Bookman Old Style"/>
                </a:rPr>
                <a:t>RP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Rounded Rectangle 19"/>
          <p:cNvGrpSpPr/>
          <p:nvPr/>
        </p:nvGrpSpPr>
        <p:grpSpPr>
          <a:xfrm>
            <a:off x="8016840" y="2084400"/>
            <a:ext cx="1047960" cy="677880"/>
            <a:chOff x="8016840" y="2084400"/>
            <a:chExt cx="1047960" cy="677880"/>
          </a:xfrm>
        </p:grpSpPr>
        <p:pic>
          <p:nvPicPr>
            <p:cNvPr id="217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8016840" y="2084400"/>
              <a:ext cx="10479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8102520" y="2146320"/>
              <a:ext cx="87480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12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Right Arrow 20"/>
          <p:cNvSpPr/>
          <p:nvPr/>
        </p:nvSpPr>
        <p:spPr>
          <a:xfrm>
            <a:off x="5243400" y="2287440"/>
            <a:ext cx="308160" cy="27324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ight Arrow 21"/>
          <p:cNvSpPr/>
          <p:nvPr/>
        </p:nvSpPr>
        <p:spPr>
          <a:xfrm>
            <a:off x="7709040" y="2255760"/>
            <a:ext cx="307800" cy="27468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ight Arrow 22"/>
          <p:cNvSpPr/>
          <p:nvPr/>
        </p:nvSpPr>
        <p:spPr>
          <a:xfrm>
            <a:off x="6742080" y="2268360"/>
            <a:ext cx="306360" cy="27468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ight Arrow 23"/>
          <p:cNvSpPr/>
          <p:nvPr/>
        </p:nvSpPr>
        <p:spPr>
          <a:xfrm>
            <a:off x="3862440" y="2284560"/>
            <a:ext cx="307800" cy="27288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ight Arrow 24"/>
          <p:cNvSpPr/>
          <p:nvPr/>
        </p:nvSpPr>
        <p:spPr>
          <a:xfrm>
            <a:off x="2935440" y="2287440"/>
            <a:ext cx="306360" cy="27324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ffd6c2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25"/>
          <p:cNvSpPr/>
          <p:nvPr/>
        </p:nvSpPr>
        <p:spPr>
          <a:xfrm>
            <a:off x="860400" y="2722680"/>
            <a:ext cx="144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26"/>
          <p:cNvSpPr/>
          <p:nvPr/>
        </p:nvSpPr>
        <p:spPr>
          <a:xfrm>
            <a:off x="2341440" y="2722680"/>
            <a:ext cx="5040" cy="322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27"/>
          <p:cNvSpPr/>
          <p:nvPr/>
        </p:nvSpPr>
        <p:spPr>
          <a:xfrm>
            <a:off x="4713120" y="2673360"/>
            <a:ext cx="0" cy="428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8"/>
          <p:cNvSpPr/>
          <p:nvPr/>
        </p:nvSpPr>
        <p:spPr>
          <a:xfrm>
            <a:off x="6132600" y="2822400"/>
            <a:ext cx="792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9"/>
          <p:cNvSpPr/>
          <p:nvPr/>
        </p:nvSpPr>
        <p:spPr>
          <a:xfrm>
            <a:off x="7402680" y="2597040"/>
            <a:ext cx="7920" cy="560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Rounded Rectangle 30"/>
          <p:cNvGrpSpPr/>
          <p:nvPr/>
        </p:nvGrpSpPr>
        <p:grpSpPr>
          <a:xfrm>
            <a:off x="4138560" y="2114640"/>
            <a:ext cx="1146240" cy="641160"/>
            <a:chOff x="4138560" y="2114640"/>
            <a:chExt cx="1146240" cy="641160"/>
          </a:xfrm>
        </p:grpSpPr>
        <p:pic>
          <p:nvPicPr>
            <p:cNvPr id="230" name="Rounded Rectangle 30" descr=""/>
            <p:cNvPicPr/>
            <p:nvPr/>
          </p:nvPicPr>
          <p:blipFill>
            <a:blip r:embed="rId7"/>
            <a:stretch/>
          </p:blipFill>
          <p:spPr>
            <a:xfrm>
              <a:off x="4138560" y="2114640"/>
              <a:ext cx="114624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227480" y="2179800"/>
              <a:ext cx="97308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200" rIns="70200" tIns="34920" bIns="34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SIDANG</a:t>
              </a:r>
              <a:r>
                <a:rPr b="1" lang="en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 </a:t>
              </a:r>
              <a:r>
                <a:rPr b="1" lang="id-ID" sz="9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LEN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ounded Rectangle 31"/>
          <p:cNvSpPr/>
          <p:nvPr/>
        </p:nvSpPr>
        <p:spPr>
          <a:xfrm>
            <a:off x="8086680" y="3170160"/>
            <a:ext cx="978120" cy="779400"/>
          </a:xfrm>
          <a:prstGeom prst="roundRect">
            <a:avLst>
              <a:gd name="adj" fmla="val 11875"/>
            </a:avLst>
          </a:prstGeom>
          <a:solidFill>
            <a:srgbClr val="99ccff"/>
          </a:solidFill>
          <a:ln w="25560">
            <a:solidFill>
              <a:srgbClr val="b9a43b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(Pengucapan </a:t>
            </a:r>
            <a:r>
              <a:rPr b="1" lang="en-US" sz="800" spc="-1" strike="noStrike">
                <a:solidFill>
                  <a:srgbClr val="000000"/>
                </a:solidFill>
                <a:latin typeface="Cambria"/>
                <a:ea typeface="Cambria"/>
              </a:rPr>
              <a:t>Putusan Sela/Purtusan Akhir/ Ketetapan</a:t>
            </a:r>
            <a:r>
              <a:rPr b="1" lang="id-ID" sz="800" spc="-1" strike="noStrike">
                <a:solidFill>
                  <a:srgbClr val="000000"/>
                </a:solidFill>
                <a:latin typeface="Cambria"/>
                <a:ea typeface="Cambria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32"/>
          <p:cNvSpPr/>
          <p:nvPr/>
        </p:nvSpPr>
        <p:spPr>
          <a:xfrm>
            <a:off x="8572680" y="2709720"/>
            <a:ext cx="2880" cy="46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Rounded Rectangle 40"/>
          <p:cNvGrpSpPr/>
          <p:nvPr/>
        </p:nvGrpSpPr>
        <p:grpSpPr>
          <a:xfrm>
            <a:off x="512640" y="5297400"/>
            <a:ext cx="2303640" cy="1389240"/>
            <a:chOff x="512640" y="5297400"/>
            <a:chExt cx="2303640" cy="1389240"/>
          </a:xfrm>
        </p:grpSpPr>
        <p:pic>
          <p:nvPicPr>
            <p:cNvPr id="235" name="Rounded Rectangle 40" descr=""/>
            <p:cNvPicPr/>
            <p:nvPr/>
          </p:nvPicPr>
          <p:blipFill>
            <a:blip r:embed="rId8"/>
            <a:stretch/>
          </p:blipFill>
          <p:spPr>
            <a:xfrm>
              <a:off x="512640" y="5297400"/>
              <a:ext cx="2303640" cy="138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646200" y="5432400"/>
              <a:ext cx="1976400" cy="10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D" sz="1000" spc="-1" strike="noStrike">
                  <a:solidFill>
                    <a:srgbClr val="000000"/>
                  </a:solidFill>
                  <a:latin typeface="Cambria"/>
                  <a:ea typeface="Cambria"/>
                </a:rPr>
                <a:t>Penyerahan Jawaban Termohon, Keterangan Pihak Terkait, Keterangan Bawaslu  paling lama 1 (satu) hari kerja sebelum sidang Pemeriksaan Persidangan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Straight Connector 41"/>
          <p:cNvSpPr/>
          <p:nvPr/>
        </p:nvSpPr>
        <p:spPr>
          <a:xfrm>
            <a:off x="1641600" y="2612880"/>
            <a:ext cx="17280" cy="28004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7"/>
          <p:cNvSpPr/>
          <p:nvPr/>
        </p:nvSpPr>
        <p:spPr>
          <a:xfrm>
            <a:off x="957240" y="6554880"/>
            <a:ext cx="1309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6 Mei – 14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7"/>
          <p:cNvSpPr/>
          <p:nvPr/>
        </p:nvSpPr>
        <p:spPr>
          <a:xfrm>
            <a:off x="249120" y="4813200"/>
            <a:ext cx="1301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26 Apr – 6 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7"/>
          <p:cNvSpPr/>
          <p:nvPr/>
        </p:nvSpPr>
        <p:spPr>
          <a:xfrm>
            <a:off x="2992320" y="4952880"/>
            <a:ext cx="1309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000000"/>
                </a:solidFill>
                <a:latin typeface="Cambria"/>
                <a:ea typeface="Cambria"/>
              </a:rPr>
              <a:t>7 Mei – 15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(6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7"/>
          <p:cNvSpPr/>
          <p:nvPr/>
        </p:nvSpPr>
        <p:spPr>
          <a:xfrm>
            <a:off x="3030480" y="3774960"/>
            <a:ext cx="11019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15 – 17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US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r>
              <a:rPr b="0" lang="en-AU" sz="900" spc="-1" strike="noStrike">
                <a:solidFill>
                  <a:srgbClr val="ff0000"/>
                </a:solidFill>
                <a:latin typeface="Cambria"/>
                <a:ea typeface="Cambria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7"/>
          <p:cNvSpPr/>
          <p:nvPr/>
        </p:nvSpPr>
        <p:spPr>
          <a:xfrm>
            <a:off x="4214880" y="3760920"/>
            <a:ext cx="1069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0 – 22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7"/>
          <p:cNvSpPr/>
          <p:nvPr/>
        </p:nvSpPr>
        <p:spPr>
          <a:xfrm>
            <a:off x="5565600" y="4229280"/>
            <a:ext cx="1149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4 – 28 Me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3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7"/>
          <p:cNvSpPr/>
          <p:nvPr/>
        </p:nvSpPr>
        <p:spPr>
          <a:xfrm>
            <a:off x="6842160" y="3890880"/>
            <a:ext cx="1204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29 Mei - 3 Jun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4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7"/>
          <p:cNvSpPr/>
          <p:nvPr/>
        </p:nvSpPr>
        <p:spPr>
          <a:xfrm>
            <a:off x="7967520" y="4119480"/>
            <a:ext cx="12319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7680" rIns="67680" tIns="33840" bIns="33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mbria"/>
                <a:ea typeface="Cambria"/>
              </a:rPr>
              <a:t>4 -  5 Juni 202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5600"/>
                <a:tab algn="l" pos="1050840"/>
                <a:tab algn="l" pos="1576440"/>
                <a:tab algn="l" pos="2101680"/>
                <a:tab algn="l" pos="2627280"/>
                <a:tab algn="l" pos="3152880"/>
                <a:tab algn="l" pos="3678120"/>
                <a:tab algn="l" pos="4203720"/>
                <a:tab algn="l" pos="4729320"/>
                <a:tab algn="l" pos="5254560"/>
                <a:tab algn="l" pos="5780160"/>
                <a:tab algn="l" pos="6305400"/>
                <a:tab algn="l" pos="6831000"/>
                <a:tab algn="l" pos="7356600"/>
                <a:tab algn="l" pos="7881840"/>
                <a:tab algn="l" pos="8407440"/>
                <a:tab algn="l" pos="8933040"/>
                <a:tab algn="l" pos="9458280"/>
                <a:tab algn="l" pos="9983880"/>
                <a:tab algn="l" pos="10509120"/>
              </a:tabLst>
            </a:pP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(</a:t>
            </a:r>
            <a:r>
              <a:rPr b="1" lang="en-ID" sz="900" spc="-1" strike="noStrike">
                <a:solidFill>
                  <a:srgbClr val="ff0000"/>
                </a:solidFill>
                <a:latin typeface="Cambria"/>
                <a:ea typeface="Cambria"/>
              </a:rPr>
              <a:t>2</a:t>
            </a:r>
            <a:r>
              <a:rPr b="1" lang="id-ID" sz="900" spc="-1" strike="noStrike">
                <a:solidFill>
                  <a:srgbClr val="ff0000"/>
                </a:solidFill>
                <a:latin typeface="Cambria"/>
                <a:ea typeface="Cambria"/>
              </a:rPr>
              <a:t> hari kerja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1165320" y="2906640"/>
            <a:ext cx="70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mic Sans MS"/>
              </a:rPr>
              <a:t>SEKIA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omic Sans MS"/>
              </a:rPr>
              <a:t>TERIMA KASI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708600" y="6558120"/>
            <a:ext cx="2184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26E9-9708-4ACE-A8D9-E964500C937C}" type="slidenum">
              <a:rPr b="1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4154400" y="439560"/>
            <a:ext cx="1243080" cy="1189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49" name="TextBox 6"/>
          <p:cNvSpPr/>
          <p:nvPr/>
        </p:nvSpPr>
        <p:spPr>
          <a:xfrm>
            <a:off x="2927520" y="1609560"/>
            <a:ext cx="365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MAHKAMAH KONSTITU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Open Sans Extrabold"/>
              </a:rPr>
              <a:t>REPUBLIK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7:39:58Z</dcterms:created>
  <dc:creator>Ricky Nafri Habib Anda</dc:creator>
  <dc:description/>
  <dc:language>en-US</dc:language>
  <cp:lastModifiedBy>Dr. Wiryanto</cp:lastModifiedBy>
  <dcterms:modified xsi:type="dcterms:W3CDTF">2023-03-14T01:19:41Z</dcterms:modified>
  <cp:revision>666</cp:revision>
  <dc:subject/>
  <dc:title>Slide 1</dc:title>
</cp:coreProperties>
</file>