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359900" cy="7199313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64E-5C93-4866-AA09-94A67A54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FBE-34C0-4295-AD1F-CE27A7C1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202-6666-4DDA-A2B0-B8916BB8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E2A-0217-4A89-8481-7259A49C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785-F0F1-46D6-86A5-7BC08F75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A61-8095-4184-9B4A-8B1BA728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6E4-3B0A-49C4-B5FC-66DA4C69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B7C-4885-4851-8FB4-2228FF14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B1B-AE27-4D07-B0E9-AE26476B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446-887C-45A8-90F7-580395E7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533-2222-4A19-B631-DA589C08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634-9681-4EE6-B9EB-2E77FAEA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557760"/>
            <a:ext cx="29638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F8A3-7E8A-4548-856C-90DD22543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EMOHON.pptx" TargetMode="External"/><Relationship Id="rId2" Type="http://schemas.openxmlformats.org/officeDocument/2006/relationships/hyperlink" Target="file:///Perbaikan%20dan%20Cara%20menghitung%20tenggang%20waktu.pptx" TargetMode="External"/><Relationship Id="rId3" Type="http://schemas.openxmlformats.org/officeDocument/2006/relationships/hyperlink" Target="file:///Perbaikan%20dan%20Cara%20menghitung%20tenggang%20waktu.pptx" TargetMode="External"/><Relationship Id="rId4" Type="http://schemas.openxmlformats.org/officeDocument/2006/relationships/hyperlink" Target="file:///PASCA%20REGISTRASI.pptx" TargetMode="External"/><Relationship Id="rId5" Type="http://schemas.openxmlformats.org/officeDocument/2006/relationships/hyperlink" Target="file:///Penyampaian%20Salinan%20permohonan.pptx" TargetMode="External"/><Relationship Id="rId6" Type="http://schemas.openxmlformats.org/officeDocument/2006/relationships/hyperlink" Target="file:///Penyampaian%20Salinan%20permohonan.pptx" TargetMode="External"/><Relationship Id="rId7" Type="http://schemas.openxmlformats.org/officeDocument/2006/relationships/hyperlink" Target="file:///PIHAK%20TERKAIT.pptx" TargetMode="External"/><Relationship Id="rId8" Type="http://schemas.openxmlformats.org/officeDocument/2006/relationships/hyperlink" Target="file:///Sidang%20Pendahuluan.pptx" TargetMode="External"/><Relationship Id="rId9" Type="http://schemas.openxmlformats.org/officeDocument/2006/relationships/hyperlink" Target="file:///Penyampaian%20Jawaban%20dan%20Ket.pptx" TargetMode="External"/><Relationship Id="rId10" Type="http://schemas.openxmlformats.org/officeDocument/2006/relationships/hyperlink" Target="file:///Sidang%20Persidangan.pptx" TargetMode="External"/><Relationship Id="rId11" Type="http://schemas.openxmlformats.org/officeDocument/2006/relationships/hyperlink" Target="file:///Persidangan.pptx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39960" y="2616120"/>
            <a:ext cx="75531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MEKANISME, 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 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PERSELISIHAN HASIL PEMILIHAN UMUM ANGGOTA DPR DAN DPRD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08040"/>
            <a:ext cx="9361440" cy="463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4041720" y="227160"/>
            <a:ext cx="1243080" cy="11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extBox 9"/>
          <p:cNvSpPr/>
          <p:nvPr/>
        </p:nvSpPr>
        <p:spPr>
          <a:xfrm>
            <a:off x="2814480" y="1397160"/>
            <a:ext cx="365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08160" y="6035760"/>
            <a:ext cx="709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D</a:t>
            </a:r>
            <a:r>
              <a:rPr b="1" lang="id-ID" sz="1400" spc="-1" strike="noStrike">
                <a:solidFill>
                  <a:srgbClr val="002060"/>
                </a:solidFill>
                <a:latin typeface="Cambria"/>
              </a:rPr>
              <a:t>ISAMPAIKAN DALAM </a:t>
            </a: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KEGIATAN BIMBINGAN TEKNIS HUKUM ACARA DALAM PERKARA PERSELISIHAN HASIL PEMILIHAN UMUM TAHUN</a:t>
            </a:r>
            <a:r>
              <a:rPr b="1" i="1" lang="en-ID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TAHUN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795760" y="4562640"/>
            <a:ext cx="38271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Ole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Kepaniteraan dan Sekretariat Jende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491040"/>
            <a:ext cx="9361440" cy="521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DASAR HU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9880-A2DE-4B19-83A4-725AF4889B6D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369720" y="1614600"/>
            <a:ext cx="8498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DASAR 1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24 TAHUN 2003 </a:t>
            </a:r>
            <a:r>
              <a:rPr b="0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sebagaimana telah diubah terakhir dengan 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20  tentang PERUBAHAN KETIGA atas UNDANG-UNDANG NOMOR 24 TAHUN 2003  tentang MAHKAMAH KONSTITU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MK NOMOR 2 TAHUN 2023 TENTANG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RAKYAT DAN DEWAN PERWAKILAN RAKYAT DA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MK NOMOR 5 TAHUN 2023 TENTANG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ERSELISIHAN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H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ASIL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EMIL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IHAN UMUM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ANGGOTA DPR, DPD, DPRD SETA PEMILIHAN UMUM PRESIDEN DAN WAKIL PRES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7736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PR DAN DPRD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B1A4-62F4-4C38-BB05-56A91BD9B38B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299880" y="1492200"/>
            <a:ext cx="879336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"/>
              </a:rPr>
              <a:t>Pengajuan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2"/>
              </a:rPr>
              <a:t>Melengkapi dan Memperbaiki</a:t>
            </a: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3"/>
              </a:rPr>
              <a:t>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erbitan Hasil 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b05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4"/>
              </a:rPr>
              <a:t>Pencatatan Permohonan Pemohon dalam 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5"/>
              </a:rPr>
              <a:t>Penyampaian Salinan Permohonan Pemohon kepada </a:t>
            </a: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6"/>
              </a:rPr>
              <a:t>Termohon dan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7"/>
              </a:rPr>
              <a:t>Pengajuan Permohonan sebagai P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Pemberi Ketera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ampaian Ketetap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8"/>
              </a:rPr>
              <a:t>Pemeriksaan Pendahul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9"/>
              </a:rPr>
              <a:t>Penyerahan Jawaban Termohon, Keterangan Pihak Terkait, dan Ket.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0"/>
              </a:rPr>
              <a:t>Pemeriksaan Persidangan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1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 (Lanju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erahan salinan Putusa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-Point Star 1"/>
          <p:cNvSpPr/>
          <p:nvPr/>
        </p:nvSpPr>
        <p:spPr>
          <a:xfrm>
            <a:off x="8585280" y="804960"/>
            <a:ext cx="507960" cy="341280"/>
          </a:xfrm>
          <a:custGeom>
            <a:avLst/>
            <a:gdLst/>
            <a:ahLst/>
            <a:rect l="l" t="t" r="r" b="b"/>
            <a:pathLst>
              <a:path w="508000" h="341312">
                <a:moveTo>
                  <a:pt x="1" y="130369"/>
                </a:moveTo>
                <a:lnTo>
                  <a:pt x="194040" y="130370"/>
                </a:lnTo>
                <a:lnTo>
                  <a:pt x="254000" y="0"/>
                </a:lnTo>
                <a:lnTo>
                  <a:pt x="313960" y="130370"/>
                </a:lnTo>
                <a:lnTo>
                  <a:pt x="507999" y="130369"/>
                </a:lnTo>
                <a:lnTo>
                  <a:pt x="351018" y="210942"/>
                </a:lnTo>
                <a:lnTo>
                  <a:pt x="410980" y="341311"/>
                </a:lnTo>
                <a:lnTo>
                  <a:pt x="254000" y="260737"/>
                </a:lnTo>
                <a:lnTo>
                  <a:pt x="97020" y="341311"/>
                </a:lnTo>
                <a:lnTo>
                  <a:pt x="156982" y="210942"/>
                </a:lnTo>
                <a:lnTo>
                  <a:pt x="1" y="13036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ANGGOTA 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C1D0-2ABF-4B29-AB3C-3DEEBDF1D90F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0" descr=""/>
          <p:cNvPicPr/>
          <p:nvPr/>
        </p:nvPicPr>
        <p:blipFill>
          <a:blip r:embed="rId1"/>
          <a:stretch/>
        </p:blipFill>
        <p:spPr>
          <a:xfrm>
            <a:off x="3666960" y="168912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57" name="Speech Bubble: Oval 10"/>
          <p:cNvSpPr/>
          <p:nvPr/>
        </p:nvSpPr>
        <p:spPr>
          <a:xfrm>
            <a:off x="5722920" y="1419120"/>
            <a:ext cx="2494080" cy="11368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2"/>
          <p:cNvSpPr/>
          <p:nvPr/>
        </p:nvSpPr>
        <p:spPr>
          <a:xfrm>
            <a:off x="5680080" y="1609560"/>
            <a:ext cx="266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emilu Serentak Tahun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3"/>
          <p:cNvSpPr/>
          <p:nvPr/>
        </p:nvSpPr>
        <p:spPr>
          <a:xfrm>
            <a:off x="4403880" y="33973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6"/>
          <p:cNvSpPr/>
          <p:nvPr/>
        </p:nvSpPr>
        <p:spPr>
          <a:xfrm>
            <a:off x="488880" y="40053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entagon 62"/>
          <p:cNvSpPr/>
          <p:nvPr/>
        </p:nvSpPr>
        <p:spPr>
          <a:xfrm>
            <a:off x="669960" y="452268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15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entagon 83"/>
          <p:cNvSpPr/>
          <p:nvPr/>
        </p:nvSpPr>
        <p:spPr>
          <a:xfrm>
            <a:off x="2798640" y="4519440"/>
            <a:ext cx="1644840" cy="3589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91"/>
          <p:cNvSpPr/>
          <p:nvPr/>
        </p:nvSpPr>
        <p:spPr>
          <a:xfrm>
            <a:off x="4836960" y="45133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 99"/>
          <p:cNvSpPr/>
          <p:nvPr/>
        </p:nvSpPr>
        <p:spPr>
          <a:xfrm>
            <a:off x="7029360" y="4495680"/>
            <a:ext cx="1749600" cy="36036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5" y="0"/>
                </a:lnTo>
                <a:lnTo>
                  <a:pt x="21600" y="10800"/>
                </a:lnTo>
                <a:lnTo>
                  <a:pt x="193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Minggu 18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3"/>
          <p:cNvSpPr/>
          <p:nvPr/>
        </p:nvSpPr>
        <p:spPr>
          <a:xfrm>
            <a:off x="2281320" y="45752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3"/>
          <p:cNvSpPr/>
          <p:nvPr/>
        </p:nvSpPr>
        <p:spPr>
          <a:xfrm>
            <a:off x="4361040" y="45626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3"/>
          <p:cNvSpPr/>
          <p:nvPr/>
        </p:nvSpPr>
        <p:spPr>
          <a:xfrm>
            <a:off x="6532560" y="45608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3"/>
          <p:cNvSpPr/>
          <p:nvPr/>
        </p:nvSpPr>
        <p:spPr>
          <a:xfrm>
            <a:off x="515880" y="2066760"/>
            <a:ext cx="269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x 24 jam sejak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diumum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6"/>
          <p:cNvSpPr/>
          <p:nvPr/>
        </p:nvSpPr>
        <p:spPr>
          <a:xfrm>
            <a:off x="515880" y="53355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entagon 105"/>
          <p:cNvSpPr/>
          <p:nvPr/>
        </p:nvSpPr>
        <p:spPr>
          <a:xfrm>
            <a:off x="696960" y="585324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Rabu 20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entagon 106"/>
          <p:cNvSpPr/>
          <p:nvPr/>
        </p:nvSpPr>
        <p:spPr>
          <a:xfrm>
            <a:off x="2825640" y="5850000"/>
            <a:ext cx="1644840" cy="3585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entagon 107"/>
          <p:cNvSpPr/>
          <p:nvPr/>
        </p:nvSpPr>
        <p:spPr>
          <a:xfrm>
            <a:off x="4863960" y="58435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entagon 108"/>
          <p:cNvSpPr/>
          <p:nvPr/>
        </p:nvSpPr>
        <p:spPr>
          <a:xfrm>
            <a:off x="7056360" y="5826240"/>
            <a:ext cx="1749600" cy="36036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5" y="0"/>
                </a:lnTo>
                <a:lnTo>
                  <a:pt x="21600" y="10800"/>
                </a:lnTo>
                <a:lnTo>
                  <a:pt x="193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23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3"/>
          <p:cNvSpPr/>
          <p:nvPr/>
        </p:nvSpPr>
        <p:spPr>
          <a:xfrm>
            <a:off x="2308320" y="59054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3"/>
          <p:cNvSpPr/>
          <p:nvPr/>
        </p:nvSpPr>
        <p:spPr>
          <a:xfrm>
            <a:off x="4387680" y="5892840"/>
            <a:ext cx="55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3"/>
          <p:cNvSpPr/>
          <p:nvPr/>
        </p:nvSpPr>
        <p:spPr>
          <a:xfrm>
            <a:off x="6559560" y="58910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142B-14AD-49EC-BDEA-D4A045996033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3"/>
          <p:cNvGrpSpPr/>
          <p:nvPr/>
        </p:nvGrpSpPr>
        <p:grpSpPr>
          <a:xfrm>
            <a:off x="448920" y="2405880"/>
            <a:ext cx="8099640" cy="3675960"/>
            <a:chOff x="448920" y="2405880"/>
            <a:chExt cx="8099640" cy="3675960"/>
          </a:xfrm>
        </p:grpSpPr>
        <p:sp>
          <p:nvSpPr>
            <p:cNvPr id="80" name="Rectangle 54"/>
            <p:cNvSpPr/>
            <p:nvPr/>
          </p:nvSpPr>
          <p:spPr>
            <a:xfrm>
              <a:off x="2552400" y="2905200"/>
              <a:ext cx="1071360" cy="4730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gaju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55"/>
            <p:cNvSpPr/>
            <p:nvPr/>
          </p:nvSpPr>
          <p:spPr>
            <a:xfrm>
              <a:off x="5451480" y="5169240"/>
              <a:ext cx="582480" cy="24624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2"/>
            <p:cNvSpPr/>
            <p:nvPr/>
          </p:nvSpPr>
          <p:spPr>
            <a:xfrm>
              <a:off x="3971880" y="2948040"/>
              <a:ext cx="2044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64"/>
            <p:cNvSpPr/>
            <p:nvPr/>
          </p:nvSpPr>
          <p:spPr>
            <a:xfrm>
              <a:off x="6042600" y="2587680"/>
              <a:ext cx="1760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8"/>
            <p:cNvSpPr/>
            <p:nvPr/>
          </p:nvSpPr>
          <p:spPr>
            <a:xfrm>
              <a:off x="809280" y="2865600"/>
              <a:ext cx="968400" cy="10382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gumu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et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roleh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suara h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milu sec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n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asional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oleh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K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9"/>
            <p:cNvSpPr/>
            <p:nvPr/>
          </p:nvSpPr>
          <p:spPr>
            <a:xfrm>
              <a:off x="787320" y="3930840"/>
              <a:ext cx="1027080" cy="38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Feb 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– 2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0</a:t>
              </a: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Mrt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202</a:t>
              </a: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21"/>
            <p:cNvGrpSpPr/>
            <p:nvPr/>
          </p:nvGrpSpPr>
          <p:grpSpPr>
            <a:xfrm>
              <a:off x="7376400" y="4768200"/>
              <a:ext cx="1061640" cy="669240"/>
              <a:chOff x="7376400" y="4768200"/>
              <a:chExt cx="1061640" cy="669240"/>
            </a:xfrm>
          </p:grpSpPr>
          <p:sp>
            <p:nvSpPr>
              <p:cNvPr id="87" name="Rounded Rectangle 94"/>
              <p:cNvSpPr/>
              <p:nvPr/>
            </p:nvSpPr>
            <p:spPr>
              <a:xfrm>
                <a:off x="7376400" y="4768200"/>
                <a:ext cx="1045800" cy="3132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9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RPK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ounded Rectangle 101"/>
              <p:cNvSpPr/>
              <p:nvPr/>
            </p:nvSpPr>
            <p:spPr>
              <a:xfrm>
                <a:off x="7377840" y="5114880"/>
                <a:ext cx="1060200" cy="322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2 April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9" name="Straight Arrow Connector 61"/>
            <p:cNvCxnSpPr/>
            <p:nvPr/>
          </p:nvCxnSpPr>
          <p:spPr>
            <a:xfrm flipV="1">
              <a:off x="3628800" y="3206520"/>
              <a:ext cx="99288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90" name="Group 1"/>
            <p:cNvGrpSpPr/>
            <p:nvPr/>
          </p:nvGrpSpPr>
          <p:grpSpPr>
            <a:xfrm>
              <a:off x="1692000" y="2976120"/>
              <a:ext cx="869040" cy="866520"/>
              <a:chOff x="1692000" y="2976120"/>
              <a:chExt cx="869040" cy="866520"/>
            </a:xfrm>
          </p:grpSpPr>
          <p:grpSp>
            <p:nvGrpSpPr>
              <p:cNvPr id="91" name="Group 146"/>
              <p:cNvGrpSpPr/>
              <p:nvPr/>
            </p:nvGrpSpPr>
            <p:grpSpPr>
              <a:xfrm>
                <a:off x="1692000" y="2976120"/>
                <a:ext cx="869040" cy="866520"/>
                <a:chOff x="1692000" y="2976120"/>
                <a:chExt cx="869040" cy="866520"/>
              </a:xfrm>
            </p:grpSpPr>
            <p:sp>
              <p:nvSpPr>
                <p:cNvPr id="92" name="TextBox 23"/>
                <p:cNvSpPr/>
                <p:nvPr/>
              </p:nvSpPr>
              <p:spPr>
                <a:xfrm>
                  <a:off x="1692000" y="3261960"/>
                  <a:ext cx="8690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3</a:t>
                  </a:r>
                  <a:r>
                    <a:rPr b="1" lang="en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x 24 jam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sejak diumumkan KP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Box 23"/>
                <p:cNvSpPr/>
                <p:nvPr/>
              </p:nvSpPr>
              <p:spPr>
                <a:xfrm>
                  <a:off x="1986480" y="2976120"/>
                  <a:ext cx="238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4" name="Straight Arrow Connector 92"/>
              <p:cNvCxnSpPr/>
              <p:nvPr/>
            </p:nvCxnSpPr>
            <p:spPr>
              <a:xfrm>
                <a:off x="1775880" y="3234960"/>
                <a:ext cx="7628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95" name="TextBox 22"/>
            <p:cNvSpPr/>
            <p:nvPr/>
          </p:nvSpPr>
          <p:spPr>
            <a:xfrm flipH="1">
              <a:off x="8008200" y="4503960"/>
              <a:ext cx="260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2"/>
            <p:cNvSpPr/>
            <p:nvPr/>
          </p:nvSpPr>
          <p:spPr>
            <a:xfrm>
              <a:off x="5005440" y="2594160"/>
              <a:ext cx="314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2"/>
            <p:cNvSpPr/>
            <p:nvPr/>
          </p:nvSpPr>
          <p:spPr>
            <a:xfrm>
              <a:off x="7199280" y="4241880"/>
              <a:ext cx="203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c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6"/>
            <p:cNvSpPr/>
            <p:nvPr/>
          </p:nvSpPr>
          <p:spPr>
            <a:xfrm>
              <a:off x="2539800" y="3402000"/>
              <a:ext cx="1112760" cy="37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-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0 - 23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124"/>
            <p:cNvSpPr/>
            <p:nvPr/>
          </p:nvSpPr>
          <p:spPr>
            <a:xfrm>
              <a:off x="5308560" y="5426280"/>
              <a:ext cx="893520" cy="31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(pen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erbitan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131"/>
            <p:cNvSpPr/>
            <p:nvPr/>
          </p:nvSpPr>
          <p:spPr>
            <a:xfrm>
              <a:off x="7232760" y="4167360"/>
              <a:ext cx="1306440" cy="363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siapan Registra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7 - 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Straight Arrow Connector 69"/>
            <p:cNvCxnSpPr/>
            <p:nvPr/>
          </p:nvCxnSpPr>
          <p:spPr>
            <a:xfrm>
              <a:off x="7875720" y="4506840"/>
              <a:ext cx="8640" cy="28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2" name="Rectangle 70"/>
            <p:cNvSpPr/>
            <p:nvPr/>
          </p:nvSpPr>
          <p:spPr>
            <a:xfrm>
              <a:off x="2854080" y="4672800"/>
              <a:ext cx="41256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P</a:t>
              </a: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Straight Arrow Connector 71"/>
            <p:cNvCxnSpPr/>
            <p:nvPr/>
          </p:nvCxnSpPr>
          <p:spPr>
            <a:xfrm>
              <a:off x="3060360" y="3819240"/>
              <a:ext cx="2160" cy="28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" name="Oval 72"/>
            <p:cNvSpPr/>
            <p:nvPr/>
          </p:nvSpPr>
          <p:spPr>
            <a:xfrm>
              <a:off x="1002960" y="5432760"/>
              <a:ext cx="1604880" cy="6490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fd94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mohonan dapat diakses melalui laman MK (mkri.I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3"/>
            <p:cNvSpPr/>
            <p:nvPr/>
          </p:nvSpPr>
          <p:spPr>
            <a:xfrm>
              <a:off x="2806560" y="4158360"/>
              <a:ext cx="51408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e-B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Straight Arrow Connector 74"/>
            <p:cNvCxnSpPr/>
            <p:nvPr/>
          </p:nvCxnSpPr>
          <p:spPr>
            <a:xfrm>
              <a:off x="3069720" y="4417920"/>
              <a:ext cx="1080" cy="224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7" name="TextBox 22"/>
            <p:cNvSpPr/>
            <p:nvPr/>
          </p:nvSpPr>
          <p:spPr>
            <a:xfrm>
              <a:off x="6589800" y="5032440"/>
              <a:ext cx="147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6"/>
            <p:cNvSpPr/>
            <p:nvPr/>
          </p:nvSpPr>
          <p:spPr>
            <a:xfrm>
              <a:off x="2206440" y="2405880"/>
              <a:ext cx="1089000" cy="24624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Elbow Connector 69"/>
            <p:cNvCxnSpPr>
              <a:stCxn id="81" idx="1"/>
              <a:endCxn id="108" idx="1"/>
            </p:cNvCxnSpPr>
            <p:nvPr/>
          </p:nvCxnSpPr>
          <p:spPr>
            <a:xfrm rot="10800000">
              <a:off x="2205720" y="2528280"/>
              <a:ext cx="3245400" cy="2763000"/>
            </a:xfrm>
            <a:prstGeom prst="bentConnector3">
              <a:avLst>
                <a:gd name="adj1" fmla="val 154138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0" name="Straight Arrow Connector 78"/>
            <p:cNvCxnSpPr/>
            <p:nvPr/>
          </p:nvCxnSpPr>
          <p:spPr>
            <a:xfrm flipH="1">
              <a:off x="7875000" y="3908520"/>
              <a:ext cx="540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1" name="Straight Arrow Connector 79"/>
            <p:cNvCxnSpPr>
              <a:stCxn id="88" idx="1"/>
            </p:cNvCxnSpPr>
            <p:nvPr/>
          </p:nvCxnSpPr>
          <p:spPr>
            <a:xfrm flipH="1">
              <a:off x="6028920" y="5276880"/>
              <a:ext cx="1348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2" name="Rectangle 264"/>
            <p:cNvSpPr/>
            <p:nvPr/>
          </p:nvSpPr>
          <p:spPr>
            <a:xfrm>
              <a:off x="7794720" y="2463840"/>
              <a:ext cx="17136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4"/>
            <p:cNvSpPr/>
            <p:nvPr/>
          </p:nvSpPr>
          <p:spPr>
            <a:xfrm>
              <a:off x="8030160" y="3819600"/>
              <a:ext cx="174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Elbow Connector 60"/>
            <p:cNvCxnSpPr>
              <a:stCxn id="102" idx="2"/>
              <a:endCxn id="108" idx="1"/>
            </p:cNvCxnSpPr>
            <p:nvPr/>
          </p:nvCxnSpPr>
          <p:spPr>
            <a:xfrm flipV="1" rot="16200000">
              <a:off x="1451880" y="3282480"/>
              <a:ext cx="2363040" cy="854640"/>
            </a:xfrm>
            <a:prstGeom prst="bentConnector4">
              <a:avLst>
                <a:gd name="adj1" fmla="val -7313"/>
                <a:gd name="adj2" fmla="val 276106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15" name="Group 3"/>
            <p:cNvGrpSpPr/>
            <p:nvPr/>
          </p:nvGrpSpPr>
          <p:grpSpPr>
            <a:xfrm>
              <a:off x="4603680" y="2854440"/>
              <a:ext cx="2130480" cy="954000"/>
              <a:chOff x="4603680" y="2854440"/>
              <a:chExt cx="2130480" cy="954000"/>
            </a:xfrm>
          </p:grpSpPr>
          <p:sp>
            <p:nvSpPr>
              <p:cNvPr id="116" name="Rectangle 88"/>
              <p:cNvSpPr/>
              <p:nvPr/>
            </p:nvSpPr>
            <p:spPr>
              <a:xfrm>
                <a:off x="4603680" y="3478320"/>
                <a:ext cx="2129040" cy="330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Feb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3 Mrt – 26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89"/>
              <p:cNvSpPr/>
              <p:nvPr/>
            </p:nvSpPr>
            <p:spPr>
              <a:xfrm>
                <a:off x="5678280" y="2886840"/>
                <a:ext cx="1055880" cy="5396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eriksa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Kelengkap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Perbaik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r>
                  <a:rPr b="1" lang="id-ID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90"/>
              <p:cNvSpPr/>
              <p:nvPr/>
            </p:nvSpPr>
            <p:spPr>
              <a:xfrm>
                <a:off x="4603680" y="2854440"/>
                <a:ext cx="1055880" cy="60156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 Melengkapi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Memperbaiki</a:t>
                </a:r>
                <a:br>
                  <a:rPr sz="800"/>
                </a:b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84"/>
            <p:cNvSpPr/>
            <p:nvPr/>
          </p:nvSpPr>
          <p:spPr>
            <a:xfrm>
              <a:off x="7219800" y="2803680"/>
              <a:ext cx="1328760" cy="66132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 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erbit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Hasil Pemeriksaan Kelengkap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d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baik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Straight Arrow Connector 85"/>
            <p:cNvCxnSpPr/>
            <p:nvPr/>
          </p:nvCxnSpPr>
          <p:spPr>
            <a:xfrm flipV="1">
              <a:off x="6721560" y="3166920"/>
              <a:ext cx="52920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1" name="Rectangle 86"/>
            <p:cNvSpPr/>
            <p:nvPr/>
          </p:nvSpPr>
          <p:spPr>
            <a:xfrm>
              <a:off x="7219800" y="3530520"/>
              <a:ext cx="1328760" cy="33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Feb  - 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6 Mrt – 27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3"/>
            <p:cNvSpPr/>
            <p:nvPr/>
          </p:nvSpPr>
          <p:spPr>
            <a:xfrm>
              <a:off x="3649680" y="3219480"/>
              <a:ext cx="895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3</a:t>
              </a:r>
              <a:r>
                <a:rPr b="1" lang="en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x 24 jam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sejak diterima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ff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/ dikirim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n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 AP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23"/>
          <p:cNvSpPr/>
          <p:nvPr/>
        </p:nvSpPr>
        <p:spPr>
          <a:xfrm>
            <a:off x="3871800" y="4913280"/>
            <a:ext cx="12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A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2 –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663480" y="462924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erbitan dan Penyampaian A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5005440" y="4981680"/>
            <a:ext cx="14760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3279600" y="410040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catatan Permohonan dalam e-B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98A1-866F-4BCA-953B-45305019754F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15"/>
          <p:cNvSpPr/>
          <p:nvPr/>
        </p:nvSpPr>
        <p:spPr>
          <a:xfrm>
            <a:off x="2963880" y="290160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8"/>
          <p:cNvSpPr/>
          <p:nvPr/>
        </p:nvSpPr>
        <p:spPr>
          <a:xfrm>
            <a:off x="3056040" y="468684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5773680" y="385308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545080" y="451908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Arrow 20"/>
          <p:cNvSpPr/>
          <p:nvPr/>
        </p:nvSpPr>
        <p:spPr>
          <a:xfrm>
            <a:off x="4842000" y="3917880"/>
            <a:ext cx="750600" cy="49860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rved Right Arrow 21"/>
          <p:cNvSpPr/>
          <p:nvPr/>
        </p:nvSpPr>
        <p:spPr>
          <a:xfrm rot="16200000">
            <a:off x="2261160" y="4615200"/>
            <a:ext cx="800280" cy="2442960"/>
          </a:xfrm>
          <a:custGeom>
            <a:avLst/>
            <a:gdLst>
              <a:gd name="textAreaLeft" fmla="*/ 106920 w 800280"/>
              <a:gd name="textAreaRight" fmla="*/ 693360 w 80028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rved Left Arrow 22"/>
          <p:cNvSpPr/>
          <p:nvPr/>
        </p:nvSpPr>
        <p:spPr>
          <a:xfrm rot="16200000">
            <a:off x="2198520" y="1292040"/>
            <a:ext cx="812880" cy="2305080"/>
          </a:xfrm>
          <a:custGeom>
            <a:avLst/>
            <a:gdLst>
              <a:gd name="textAreaLeft" fmla="*/ 108720 w 812880"/>
              <a:gd name="textAreaRight" fmla="*/ 704160 w 81288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4"/>
          <p:cNvGrpSpPr/>
          <p:nvPr/>
        </p:nvGrpSpPr>
        <p:grpSpPr>
          <a:xfrm>
            <a:off x="299880" y="2925720"/>
            <a:ext cx="2617560" cy="2431800"/>
            <a:chOff x="299880" y="2925720"/>
            <a:chExt cx="2617560" cy="2431800"/>
          </a:xfrm>
        </p:grpSpPr>
        <p:sp>
          <p:nvSpPr>
            <p:cNvPr id="137" name="Oval 25"/>
            <p:cNvSpPr/>
            <p:nvPr/>
          </p:nvSpPr>
          <p:spPr>
            <a:xfrm>
              <a:off x="299880" y="2925720"/>
              <a:ext cx="2617560" cy="243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6"/>
            <p:cNvSpPr/>
            <p:nvPr/>
          </p:nvSpPr>
          <p:spPr>
            <a:xfrm>
              <a:off x="299880" y="2925720"/>
              <a:ext cx="2617560" cy="243180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>
              <a:off x="469440" y="3083400"/>
              <a:ext cx="2276280" cy="212796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8"/>
            <p:cNvSpPr/>
            <p:nvPr/>
          </p:nvSpPr>
          <p:spPr>
            <a:xfrm>
              <a:off x="469440" y="3083400"/>
              <a:ext cx="2276280" cy="21279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>
              <a:off x="585000" y="3190680"/>
              <a:ext cx="2043720" cy="190044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"/>
          <p:cNvSpPr/>
          <p:nvPr/>
        </p:nvSpPr>
        <p:spPr>
          <a:xfrm>
            <a:off x="144360" y="362916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 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1"/>
          <p:cNvSpPr/>
          <p:nvPr/>
        </p:nvSpPr>
        <p:spPr>
          <a:xfrm>
            <a:off x="4133880" y="3257640"/>
            <a:ext cx="527040" cy="183348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5877000" y="2964600"/>
            <a:ext cx="251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0 – 22 Me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 atau                         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4 – 5 Jun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2833560" y="382500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A360-CB0D-446C-9BA0-48EB18D67B6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43"/>
          <p:cNvCxnSpPr/>
          <p:nvPr/>
        </p:nvCxnSpPr>
        <p:spPr>
          <a:xfrm flipV="1">
            <a:off x="1370160" y="4279320"/>
            <a:ext cx="48960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3"/>
          <p:cNvSpPr/>
          <p:nvPr/>
        </p:nvSpPr>
        <p:spPr>
          <a:xfrm>
            <a:off x="3808440" y="403272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1871640" y="393048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5173560" y="267660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cepat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5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6"/>
          <p:cNvSpPr/>
          <p:nvPr/>
        </p:nvSpPr>
        <p:spPr>
          <a:xfrm>
            <a:off x="217440" y="3697200"/>
            <a:ext cx="1152720" cy="12636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67"/>
          <p:cNvSpPr/>
          <p:nvPr/>
        </p:nvSpPr>
        <p:spPr>
          <a:xfrm>
            <a:off x="216000" y="4290840"/>
            <a:ext cx="1181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Elbow Connector 35"/>
          <p:cNvCxnSpPr/>
          <p:nvPr/>
        </p:nvCxnSpPr>
        <p:spPr>
          <a:xfrm>
            <a:off x="4919400" y="311436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155" name="Group 69"/>
          <p:cNvGrpSpPr/>
          <p:nvPr/>
        </p:nvGrpSpPr>
        <p:grpSpPr>
          <a:xfrm>
            <a:off x="693720" y="2630520"/>
            <a:ext cx="8435880" cy="2770200"/>
            <a:chOff x="693720" y="2630520"/>
            <a:chExt cx="8435880" cy="2770200"/>
          </a:xfrm>
        </p:grpSpPr>
        <p:grpSp>
          <p:nvGrpSpPr>
            <p:cNvPr id="156" name="Group 70"/>
            <p:cNvGrpSpPr/>
            <p:nvPr/>
          </p:nvGrpSpPr>
          <p:grpSpPr>
            <a:xfrm>
              <a:off x="693720" y="2630520"/>
              <a:ext cx="4236480" cy="1054800"/>
              <a:chOff x="693720" y="2630520"/>
              <a:chExt cx="4236480" cy="1054800"/>
            </a:xfrm>
          </p:grpSpPr>
          <p:sp>
            <p:nvSpPr>
              <p:cNvPr id="157" name="TextBox 79"/>
              <p:cNvSpPr/>
              <p:nvPr/>
            </p:nvSpPr>
            <p:spPr>
              <a:xfrm>
                <a:off x="3187800" y="2705040"/>
                <a:ext cx="1670040" cy="864360"/>
              </a:xfrm>
              <a:prstGeom prst="rect">
                <a:avLst/>
              </a:prstGeom>
              <a:solidFill>
                <a:srgbClr val="ffc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Rectangle 80"/>
              <p:cNvGrpSpPr/>
              <p:nvPr/>
            </p:nvGrpSpPr>
            <p:grpSpPr>
              <a:xfrm>
                <a:off x="3121200" y="2663640"/>
                <a:ext cx="1809000" cy="567000"/>
                <a:chOff x="3121200" y="2663640"/>
                <a:chExt cx="1809000" cy="567000"/>
              </a:xfrm>
            </p:grpSpPr>
            <p:pic>
              <p:nvPicPr>
                <p:cNvPr id="159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1200" y="2663640"/>
                  <a:ext cx="1809000" cy="56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>
                  <a:off x="3187440" y="2704320"/>
                  <a:ext cx="1669320" cy="4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Rectangle 48"/>
              <p:cNvSpPr/>
              <p:nvPr/>
            </p:nvSpPr>
            <p:spPr>
              <a:xfrm>
                <a:off x="693720" y="2630520"/>
                <a:ext cx="251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 hari setelah BRPK atau 3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 kerj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sebelum Pemeriksaan Pendahulu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23 - 25 Apr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34"/>
              <p:cNvSpPr/>
              <p:nvPr/>
            </p:nvSpPr>
            <p:spPr>
              <a:xfrm flipH="1" flipV="1">
                <a:off x="3199320" y="3116880"/>
                <a:ext cx="169920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3" name="Elbow Connector 35"/>
              <p:cNvCxnSpPr/>
              <p:nvPr/>
            </p:nvCxnSpPr>
            <p:spPr>
              <a:xfrm flipH="1" flipV="1" rot="5400000">
                <a:off x="1713960" y="2211480"/>
                <a:ext cx="552960" cy="23954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grpSp>
          <p:nvGrpSpPr>
            <p:cNvPr id="164" name="Group 71"/>
            <p:cNvGrpSpPr/>
            <p:nvPr/>
          </p:nvGrpSpPr>
          <p:grpSpPr>
            <a:xfrm>
              <a:off x="3491280" y="4389480"/>
              <a:ext cx="1944720" cy="1011240"/>
              <a:chOff x="3491280" y="4389480"/>
              <a:chExt cx="1944720" cy="1011240"/>
            </a:xfrm>
          </p:grpSpPr>
          <p:sp>
            <p:nvSpPr>
              <p:cNvPr id="165" name="Rectangle 47"/>
              <p:cNvSpPr/>
              <p:nvPr/>
            </p:nvSpPr>
            <p:spPr>
              <a:xfrm>
                <a:off x="3491280" y="4941720"/>
                <a:ext cx="1361160" cy="45900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ENGAJUAN PERMOHON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</a:rPr>
                  <a:t>SEBAGAI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IHAK TERKA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48"/>
              <p:cNvSpPr/>
              <p:nvPr/>
            </p:nvSpPr>
            <p:spPr>
              <a:xfrm>
                <a:off x="3757320" y="4389480"/>
                <a:ext cx="1678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79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2"/>
            <p:cNvGrpSpPr/>
            <p:nvPr/>
          </p:nvGrpSpPr>
          <p:grpSpPr>
            <a:xfrm>
              <a:off x="7755480" y="3413160"/>
              <a:ext cx="1374120" cy="1146960"/>
              <a:chOff x="7755480" y="3413160"/>
              <a:chExt cx="1374120" cy="1146960"/>
            </a:xfrm>
          </p:grpSpPr>
          <p:sp>
            <p:nvSpPr>
              <p:cNvPr id="168" name="Oval 73"/>
              <p:cNvSpPr/>
              <p:nvPr/>
            </p:nvSpPr>
            <p:spPr>
              <a:xfrm>
                <a:off x="7755480" y="3413160"/>
                <a:ext cx="1374120" cy="11469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74"/>
              <p:cNvSpPr/>
              <p:nvPr/>
            </p:nvSpPr>
            <p:spPr>
              <a:xfrm>
                <a:off x="7850520" y="3517560"/>
                <a:ext cx="1188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2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SIDANG</a:t>
                </a:r>
                <a:br>
                  <a:rPr sz="1200"/>
                </a:br>
                <a:r>
                  <a:rPr b="1" lang="id-ID" sz="12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TA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75"/>
              <p:cNvSpPr/>
              <p:nvPr/>
            </p:nvSpPr>
            <p:spPr>
              <a:xfrm>
                <a:off x="7890120" y="4032000"/>
                <a:ext cx="11887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Straight Connector 34"/>
              <p:cNvSpPr/>
              <p:nvPr/>
            </p:nvSpPr>
            <p:spPr>
              <a:xfrm flipH="1" flipV="1">
                <a:off x="7768440" y="4033440"/>
                <a:ext cx="13345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Rectangle 84"/>
          <p:cNvSpPr/>
          <p:nvPr/>
        </p:nvSpPr>
        <p:spPr>
          <a:xfrm>
            <a:off x="3808440" y="428364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Elbow Connector 35"/>
          <p:cNvCxnSpPr>
            <a:stCxn id="152" idx="4"/>
          </p:cNvCxnSpPr>
          <p:nvPr/>
        </p:nvCxnSpPr>
        <p:spPr>
          <a:xfrm flipH="1" rot="16200000">
            <a:off x="1947960" y="3804840"/>
            <a:ext cx="421560" cy="273240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74" name="Straight Arrow Connector 43"/>
          <p:cNvCxnSpPr/>
          <p:nvPr/>
        </p:nvCxnSpPr>
        <p:spPr>
          <a:xfrm flipV="1">
            <a:off x="3446280" y="4274280"/>
            <a:ext cx="362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44"/>
          <p:cNvSpPr/>
          <p:nvPr/>
        </p:nvSpPr>
        <p:spPr>
          <a:xfrm>
            <a:off x="1870200" y="4297320"/>
            <a:ext cx="15764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ma 1</a:t>
            </a:r>
            <a:r>
              <a:rPr b="1" lang="id-ID" sz="8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hari kerja setelah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4"/>
          <p:cNvSpPr/>
          <p:nvPr/>
        </p:nvSpPr>
        <p:spPr>
          <a:xfrm>
            <a:off x="3497400" y="5381640"/>
            <a:ext cx="13777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176880" y="4896000"/>
            <a:ext cx="1577880" cy="4744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HARI SIDANG PERTAMA KEPADA PIHAK </a:t>
            </a:r>
            <a:r>
              <a:rPr b="1" lang="en-US" sz="900" spc="-1" strike="noStrike">
                <a:solidFill>
                  <a:srgbClr val="ffffff"/>
                </a:solidFill>
                <a:latin typeface="Cambria"/>
              </a:rPr>
              <a:t>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4"/>
          <p:cNvSpPr/>
          <p:nvPr/>
        </p:nvSpPr>
        <p:spPr>
          <a:xfrm>
            <a:off x="6181560" y="5367240"/>
            <a:ext cx="156708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3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meriksaan Pendahuluan</a:t>
            </a:r>
            <a:br>
              <a:rPr sz="800"/>
            </a:br>
            <a:r>
              <a:rPr b="1" lang="en-US" sz="800" spc="-1" strike="noStrike">
                <a:solidFill>
                  <a:srgbClr val="ff0000"/>
                </a:solidFill>
                <a:latin typeface="Cambria"/>
                <a:ea typeface="Cambria"/>
              </a:rPr>
              <a:t>23 - 25 Apr 2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Elbow Connector 91"/>
          <p:cNvCxnSpPr/>
          <p:nvPr/>
        </p:nvCxnSpPr>
        <p:spPr>
          <a:xfrm flipV="1">
            <a:off x="7556040" y="4571280"/>
            <a:ext cx="886680" cy="78804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0" name="Straight Arrow Connector 43"/>
          <p:cNvCxnSpPr/>
          <p:nvPr/>
        </p:nvCxnSpPr>
        <p:spPr>
          <a:xfrm flipV="1">
            <a:off x="4876920" y="5371920"/>
            <a:ext cx="130392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93"/>
          <p:cNvSpPr/>
          <p:nvPr/>
        </p:nvSpPr>
        <p:spPr>
          <a:xfrm>
            <a:off x="7845480" y="411948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mbria"/>
                <a:ea typeface="Cambria"/>
              </a:rPr>
              <a:t>26 Apr  - 6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4"/>
          <p:cNvSpPr/>
          <p:nvPr/>
        </p:nvSpPr>
        <p:spPr>
          <a:xfrm>
            <a:off x="272880" y="4395960"/>
            <a:ext cx="10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mbria"/>
                <a:ea typeface="Cambria"/>
              </a:rPr>
              <a:t>22 Mei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5"/>
          <p:cNvSpPr/>
          <p:nvPr/>
        </p:nvSpPr>
        <p:spPr>
          <a:xfrm>
            <a:off x="252360" y="387504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4608360" y="4726080"/>
            <a:ext cx="174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3 - 24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2527200" y="369108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2"/>
          <p:cNvSpPr/>
          <p:nvPr/>
        </p:nvSpPr>
        <p:spPr>
          <a:xfrm>
            <a:off x="4084560" y="471024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2"/>
          <p:cNvSpPr/>
          <p:nvPr/>
        </p:nvSpPr>
        <p:spPr>
          <a:xfrm>
            <a:off x="4896000" y="2754360"/>
            <a:ext cx="3013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6773760" y="46609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8472600" y="31561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252440" y="1541520"/>
            <a:ext cx="7093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000" spc="-1" strike="noStrike">
                <a:solidFill>
                  <a:srgbClr val="c00000"/>
                </a:solidFill>
                <a:latin typeface="Cambria"/>
                <a:ea typeface="Cambria"/>
              </a:rPr>
              <a:t>(</a:t>
            </a:r>
            <a:r>
              <a:rPr b="1" lang="en-ID" sz="20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PR DAN DPRD</a:t>
            </a:r>
            <a:r>
              <a:rPr b="1" lang="en-ID" sz="2000" spc="-1" strike="noStrike">
                <a:solidFill>
                  <a:srgbClr val="c00000"/>
                </a:solidFill>
                <a:latin typeface="Cambria"/>
                <a:ea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48924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RSIDANG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59"/>
          <p:cNvSpPr/>
          <p:nvPr/>
        </p:nvSpPr>
        <p:spPr>
          <a:xfrm>
            <a:off x="6708600" y="640728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4174-7E31-44ED-892F-F89195A7529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ounded Rectangle 6"/>
          <p:cNvGrpSpPr/>
          <p:nvPr/>
        </p:nvGrpSpPr>
        <p:grpSpPr>
          <a:xfrm>
            <a:off x="244440" y="2041560"/>
            <a:ext cx="1236600" cy="762120"/>
            <a:chOff x="244440" y="2041560"/>
            <a:chExt cx="1236600" cy="762120"/>
          </a:xfrm>
        </p:grpSpPr>
        <p:pic>
          <p:nvPicPr>
            <p:cNvPr id="194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244440" y="2041560"/>
              <a:ext cx="1236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34800" y="2111400"/>
              <a:ext cx="1051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Rounded Rectangle 7"/>
          <p:cNvGrpSpPr/>
          <p:nvPr/>
        </p:nvGrpSpPr>
        <p:grpSpPr>
          <a:xfrm>
            <a:off x="3200400" y="2170080"/>
            <a:ext cx="695160" cy="536760"/>
            <a:chOff x="3200400" y="2170080"/>
            <a:chExt cx="695160" cy="536760"/>
          </a:xfrm>
        </p:grpSpPr>
        <p:pic>
          <p:nvPicPr>
            <p:cNvPr id="197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3200400" y="2170080"/>
              <a:ext cx="6951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281400" y="2227320"/>
              <a:ext cx="5284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ounded Rectangle 8"/>
          <p:cNvSpPr/>
          <p:nvPr/>
        </p:nvSpPr>
        <p:spPr>
          <a:xfrm>
            <a:off x="157320" y="3044880"/>
            <a:ext cx="1407960" cy="1739880"/>
          </a:xfrm>
          <a:custGeom>
            <a:avLst/>
            <a:gdLst>
              <a:gd name="textAreaLeft" fmla="*/ 41040 w 1407960"/>
              <a:gd name="textAreaRight" fmla="*/ 1366920 w 1407960"/>
              <a:gd name="textAreaTop" fmla="*/ 41040 h 1739880"/>
              <a:gd name="textAreaBottom" fmla="*/ 1698840 h 1739880"/>
            </a:gdLst>
            <a:ahLst/>
            <a:rect l="textAreaLeft" t="textAreaTop" r="textAreaRight" b="textAreaBottom"/>
            <a:pathLst>
              <a:path w="21600" h="26691">
                <a:moveTo>
                  <a:pt x="2165" y="0"/>
                </a:moveTo>
                <a:arcTo wR="2165" hR="2165" stAng="16200000" swAng="-5400000"/>
                <a:lnTo>
                  <a:pt x="0" y="24526"/>
                </a:lnTo>
                <a:arcTo wR="2165" hR="2165" stAng="10800000" swAng="-5400000"/>
                <a:lnTo>
                  <a:pt x="19435" y="26691"/>
                </a:lnTo>
                <a:arcTo wR="2165" hR="2165" stAng="5400000" swAng="-5400000"/>
                <a:lnTo>
                  <a:pt x="21600" y="2165"/>
                </a:lnTo>
                <a:arcTo wR="2165" hR="2165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9"/>
          <p:cNvSpPr/>
          <p:nvPr/>
        </p:nvSpPr>
        <p:spPr>
          <a:xfrm>
            <a:off x="1719360" y="3044880"/>
            <a:ext cx="1252440" cy="2211480"/>
          </a:xfrm>
          <a:custGeom>
            <a:avLst/>
            <a:gdLst>
              <a:gd name="textAreaLeft" fmla="*/ 36720 w 1252440"/>
              <a:gd name="textAreaRight" fmla="*/ 1215720 w 1252440"/>
              <a:gd name="textAreaTop" fmla="*/ 36720 h 2211480"/>
              <a:gd name="textAreaBottom" fmla="*/ 2174760 h 2211480"/>
            </a:gdLst>
            <a:ahLst/>
            <a:rect l="textAreaLeft" t="textAreaTop" r="textAreaRight" b="textAreaBottom"/>
            <a:pathLst>
              <a:path w="21600" h="38135">
                <a:moveTo>
                  <a:pt x="2164" y="0"/>
                </a:moveTo>
                <a:arcTo wR="2164" hR="2164" stAng="16200000" swAng="-5400000"/>
                <a:lnTo>
                  <a:pt x="0" y="35971"/>
                </a:lnTo>
                <a:arcTo wR="2164" hR="2164" stAng="10800000" swAng="-5400000"/>
                <a:lnTo>
                  <a:pt x="19436" y="38135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10"/>
          <p:cNvSpPr/>
          <p:nvPr/>
        </p:nvSpPr>
        <p:spPr>
          <a:xfrm>
            <a:off x="5489640" y="3127320"/>
            <a:ext cx="1301760" cy="98280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unded Rectangle 11"/>
          <p:cNvSpPr/>
          <p:nvPr/>
        </p:nvSpPr>
        <p:spPr>
          <a:xfrm>
            <a:off x="3062160" y="3056040"/>
            <a:ext cx="971640" cy="639720"/>
          </a:xfrm>
          <a:prstGeom prst="roundRect">
            <a:avLst>
              <a:gd name="adj" fmla="val 1121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12"/>
          <p:cNvSpPr/>
          <p:nvPr/>
        </p:nvSpPr>
        <p:spPr>
          <a:xfrm>
            <a:off x="6945480" y="3157560"/>
            <a:ext cx="93168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13"/>
          <p:cNvSpPr/>
          <p:nvPr/>
        </p:nvSpPr>
        <p:spPr>
          <a:xfrm>
            <a:off x="4224240" y="3102120"/>
            <a:ext cx="978120" cy="51588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ight Arrow 14"/>
          <p:cNvSpPr/>
          <p:nvPr/>
        </p:nvSpPr>
        <p:spPr>
          <a:xfrm>
            <a:off x="1459080" y="228744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5"/>
          <p:cNvSpPr/>
          <p:nvPr/>
        </p:nvSpPr>
        <p:spPr>
          <a:xfrm>
            <a:off x="3546360" y="2624040"/>
            <a:ext cx="1800" cy="43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Rounded Rectangle 16"/>
          <p:cNvGrpSpPr/>
          <p:nvPr/>
        </p:nvGrpSpPr>
        <p:grpSpPr>
          <a:xfrm>
            <a:off x="1725480" y="2041560"/>
            <a:ext cx="1236960" cy="762120"/>
            <a:chOff x="1725480" y="2041560"/>
            <a:chExt cx="1236960" cy="762120"/>
          </a:xfrm>
        </p:grpSpPr>
        <p:pic>
          <p:nvPicPr>
            <p:cNvPr id="208" name="Rounded Rectangle 16" descr=""/>
            <p:cNvPicPr/>
            <p:nvPr/>
          </p:nvPicPr>
          <p:blipFill>
            <a:blip r:embed="rId3"/>
            <a:stretch/>
          </p:blipFill>
          <p:spPr>
            <a:xfrm>
              <a:off x="1725480" y="2041560"/>
              <a:ext cx="12369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816200" y="2111400"/>
              <a:ext cx="1052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ounded Rectangle 17"/>
          <p:cNvGrpSpPr/>
          <p:nvPr/>
        </p:nvGrpSpPr>
        <p:grpSpPr>
          <a:xfrm>
            <a:off x="5516640" y="1974960"/>
            <a:ext cx="1231920" cy="933480"/>
            <a:chOff x="5516640" y="1974960"/>
            <a:chExt cx="1231920" cy="933480"/>
          </a:xfrm>
        </p:grpSpPr>
        <p:pic>
          <p:nvPicPr>
            <p:cNvPr id="211" name="Rounded Rectangle 17" descr=""/>
            <p:cNvPicPr/>
            <p:nvPr/>
          </p:nvPicPr>
          <p:blipFill>
            <a:blip r:embed="rId4"/>
            <a:stretch/>
          </p:blipFill>
          <p:spPr>
            <a:xfrm>
              <a:off x="5516640" y="1974960"/>
              <a:ext cx="12319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614920" y="2048040"/>
              <a:ext cx="103500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rsidangan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Lanjut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ounded Rectangle 18"/>
          <p:cNvGrpSpPr/>
          <p:nvPr/>
        </p:nvGrpSpPr>
        <p:grpSpPr>
          <a:xfrm>
            <a:off x="7047000" y="2146320"/>
            <a:ext cx="695160" cy="536400"/>
            <a:chOff x="7047000" y="2146320"/>
            <a:chExt cx="695160" cy="536400"/>
          </a:xfrm>
        </p:grpSpPr>
        <p:pic>
          <p:nvPicPr>
            <p:cNvPr id="214" name="Rounded Rectangle 18" descr=""/>
            <p:cNvPicPr/>
            <p:nvPr/>
          </p:nvPicPr>
          <p:blipFill>
            <a:blip r:embed="rId5"/>
            <a:stretch/>
          </p:blipFill>
          <p:spPr>
            <a:xfrm>
              <a:off x="7047000" y="2146320"/>
              <a:ext cx="695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126200" y="2201760"/>
              <a:ext cx="5288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Rounded Rectangle 19"/>
          <p:cNvGrpSpPr/>
          <p:nvPr/>
        </p:nvGrpSpPr>
        <p:grpSpPr>
          <a:xfrm>
            <a:off x="8016840" y="2084400"/>
            <a:ext cx="1047960" cy="677880"/>
            <a:chOff x="8016840" y="2084400"/>
            <a:chExt cx="1047960" cy="677880"/>
          </a:xfrm>
        </p:grpSpPr>
        <p:pic>
          <p:nvPicPr>
            <p:cNvPr id="217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8016840" y="2084400"/>
              <a:ext cx="10479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8102520" y="2146320"/>
              <a:ext cx="8748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ight Arrow 20"/>
          <p:cNvSpPr/>
          <p:nvPr/>
        </p:nvSpPr>
        <p:spPr>
          <a:xfrm>
            <a:off x="5243400" y="2287440"/>
            <a:ext cx="308160" cy="2732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21"/>
          <p:cNvSpPr/>
          <p:nvPr/>
        </p:nvSpPr>
        <p:spPr>
          <a:xfrm>
            <a:off x="7709040" y="225576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ight Arrow 22"/>
          <p:cNvSpPr/>
          <p:nvPr/>
        </p:nvSpPr>
        <p:spPr>
          <a:xfrm>
            <a:off x="6742080" y="2268360"/>
            <a:ext cx="306360" cy="2746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ight Arrow 23"/>
          <p:cNvSpPr/>
          <p:nvPr/>
        </p:nvSpPr>
        <p:spPr>
          <a:xfrm>
            <a:off x="3862440" y="2284560"/>
            <a:ext cx="307800" cy="2728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ight Arrow 24"/>
          <p:cNvSpPr/>
          <p:nvPr/>
        </p:nvSpPr>
        <p:spPr>
          <a:xfrm>
            <a:off x="2935440" y="2287440"/>
            <a:ext cx="306360" cy="27324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5"/>
          <p:cNvSpPr/>
          <p:nvPr/>
        </p:nvSpPr>
        <p:spPr>
          <a:xfrm>
            <a:off x="860400" y="2722680"/>
            <a:ext cx="14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6"/>
          <p:cNvSpPr/>
          <p:nvPr/>
        </p:nvSpPr>
        <p:spPr>
          <a:xfrm>
            <a:off x="2341440" y="2722680"/>
            <a:ext cx="50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7"/>
          <p:cNvSpPr/>
          <p:nvPr/>
        </p:nvSpPr>
        <p:spPr>
          <a:xfrm>
            <a:off x="4713120" y="2673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6132600" y="2822400"/>
            <a:ext cx="792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9"/>
          <p:cNvSpPr/>
          <p:nvPr/>
        </p:nvSpPr>
        <p:spPr>
          <a:xfrm>
            <a:off x="7402680" y="2597040"/>
            <a:ext cx="7920" cy="560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ounded Rectangle 30"/>
          <p:cNvGrpSpPr/>
          <p:nvPr/>
        </p:nvGrpSpPr>
        <p:grpSpPr>
          <a:xfrm>
            <a:off x="4138560" y="2114640"/>
            <a:ext cx="1146240" cy="641160"/>
            <a:chOff x="4138560" y="2114640"/>
            <a:chExt cx="1146240" cy="641160"/>
          </a:xfrm>
        </p:grpSpPr>
        <p:pic>
          <p:nvPicPr>
            <p:cNvPr id="230" name="Rounded Rectangle 30" descr=""/>
            <p:cNvPicPr/>
            <p:nvPr/>
          </p:nvPicPr>
          <p:blipFill>
            <a:blip r:embed="rId7"/>
            <a:stretch/>
          </p:blipFill>
          <p:spPr>
            <a:xfrm>
              <a:off x="4138560" y="2114640"/>
              <a:ext cx="1146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227480" y="2179800"/>
              <a:ext cx="9730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ounded Rectangle 31"/>
          <p:cNvSpPr/>
          <p:nvPr/>
        </p:nvSpPr>
        <p:spPr>
          <a:xfrm>
            <a:off x="8086680" y="3170160"/>
            <a:ext cx="97812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32"/>
          <p:cNvSpPr/>
          <p:nvPr/>
        </p:nvSpPr>
        <p:spPr>
          <a:xfrm>
            <a:off x="8572680" y="2709720"/>
            <a:ext cx="288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Rounded Rectangle 40"/>
          <p:cNvGrpSpPr/>
          <p:nvPr/>
        </p:nvGrpSpPr>
        <p:grpSpPr>
          <a:xfrm>
            <a:off x="512640" y="5297400"/>
            <a:ext cx="2303640" cy="1389240"/>
            <a:chOff x="512640" y="5297400"/>
            <a:chExt cx="2303640" cy="1389240"/>
          </a:xfrm>
        </p:grpSpPr>
        <p:pic>
          <p:nvPicPr>
            <p:cNvPr id="235" name="Rounded Rectangle 40" descr=""/>
            <p:cNvPicPr/>
            <p:nvPr/>
          </p:nvPicPr>
          <p:blipFill>
            <a:blip r:embed="rId8"/>
            <a:stretch/>
          </p:blipFill>
          <p:spPr>
            <a:xfrm>
              <a:off x="512640" y="5297400"/>
              <a:ext cx="230364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46200" y="5432400"/>
              <a:ext cx="197640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yerah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Straight Connector 41"/>
          <p:cNvSpPr/>
          <p:nvPr/>
        </p:nvSpPr>
        <p:spPr>
          <a:xfrm>
            <a:off x="1641600" y="2612880"/>
            <a:ext cx="17280" cy="280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7"/>
          <p:cNvSpPr/>
          <p:nvPr/>
        </p:nvSpPr>
        <p:spPr>
          <a:xfrm>
            <a:off x="957240" y="655488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6 Mei – 14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249120" y="4813200"/>
            <a:ext cx="1301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26 Apr – 6 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7"/>
          <p:cNvSpPr/>
          <p:nvPr/>
        </p:nvSpPr>
        <p:spPr>
          <a:xfrm>
            <a:off x="2992320" y="495288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7 Mei – 15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7"/>
          <p:cNvSpPr/>
          <p:nvPr/>
        </p:nvSpPr>
        <p:spPr>
          <a:xfrm>
            <a:off x="3030480" y="3774960"/>
            <a:ext cx="1101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15 – 17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r>
              <a:rPr b="0" lang="en-AU" sz="9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>
            <a:off x="4214880" y="3760920"/>
            <a:ext cx="1069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0 – 22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7"/>
          <p:cNvSpPr/>
          <p:nvPr/>
        </p:nvSpPr>
        <p:spPr>
          <a:xfrm>
            <a:off x="5565600" y="4229280"/>
            <a:ext cx="114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4 – 28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7"/>
          <p:cNvSpPr/>
          <p:nvPr/>
        </p:nvSpPr>
        <p:spPr>
          <a:xfrm>
            <a:off x="6842160" y="3890880"/>
            <a:ext cx="1204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9 Mei - 3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7"/>
          <p:cNvSpPr/>
          <p:nvPr/>
        </p:nvSpPr>
        <p:spPr>
          <a:xfrm>
            <a:off x="7967520" y="4119480"/>
            <a:ext cx="1231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4 -  5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2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165320" y="2906640"/>
            <a:ext cx="70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SEKI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TERIMA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6FC9-E75C-45C2-9224-3471A1143E40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4154400" y="439560"/>
            <a:ext cx="1243080" cy="11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9" name="TextBox 6"/>
          <p:cNvSpPr/>
          <p:nvPr/>
        </p:nvSpPr>
        <p:spPr>
          <a:xfrm>
            <a:off x="2927520" y="1609560"/>
            <a:ext cx="36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7:39:58Z</dcterms:created>
  <dc:creator>Ricky Nafri Habib Anda</dc:creator>
  <dc:description/>
  <dc:language>en-US</dc:language>
  <cp:lastModifiedBy>Dr. Wiryanto</cp:lastModifiedBy>
  <dcterms:modified xsi:type="dcterms:W3CDTF">2023-03-14T01:19:41Z</dcterms:modified>
  <cp:revision>666</cp:revision>
  <dc:subject/>
  <dc:title>Slide 1</dc:title>
</cp:coreProperties>
</file>