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359900" cy="7199313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889-0687-4610-BF45-358DA1A0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E3B-8EEB-4331-B4A1-4422F094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41B-512F-4407-9D51-B85E1B3D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E6F-2D1F-4DE4-8C48-F71CA0D6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450-2E26-4C46-A7CE-B2603530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BA1-D82A-4FBD-891B-72BA995F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CAB-5E9F-454F-BBD8-1E3E4F27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C2D-1893-4AD0-B8DA-D50D3284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180-154A-4E93-9BE8-2EA6A99B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4C1-983E-4910-A6EC-5BBB41C5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48F2-6251-44D4-9549-7BD3EF3F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B15-1CE8-40BF-BC41-E06B68F2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557760"/>
            <a:ext cx="29638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46A8-AFBD-4F93-833D-237A3F841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EMOHON.pptx" TargetMode="External"/><Relationship Id="rId2" Type="http://schemas.openxmlformats.org/officeDocument/2006/relationships/hyperlink" Target="file:///Perbaikan%20dan%20Cara%20menghitung%20tenggang%20waktu.pptx" TargetMode="External"/><Relationship Id="rId3" Type="http://schemas.openxmlformats.org/officeDocument/2006/relationships/hyperlink" Target="file:///Perbaikan%20dan%20Cara%20menghitung%20tenggang%20waktu.pptx" TargetMode="External"/><Relationship Id="rId4" Type="http://schemas.openxmlformats.org/officeDocument/2006/relationships/hyperlink" Target="file:///PASCA%20REGISTRASI.pptx" TargetMode="External"/><Relationship Id="rId5" Type="http://schemas.openxmlformats.org/officeDocument/2006/relationships/hyperlink" Target="file:///Penyampaian%20Salinan%20permohonan.pptx" TargetMode="External"/><Relationship Id="rId6" Type="http://schemas.openxmlformats.org/officeDocument/2006/relationships/hyperlink" Target="file:///Penyampaian%20Salinan%20permohonan.pptx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46120" y="2336760"/>
            <a:ext cx="7947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MEKANISME, 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 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PERSELISIHAN HASIL PEMILIHAN UMUM ANGGOTA DPR, DPD, DAN DPRD SERTA PRESIDEN DAN WAKIL PRESIDEN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08040"/>
            <a:ext cx="9361440" cy="463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4041720" y="227160"/>
            <a:ext cx="1243080" cy="118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extBox 9"/>
          <p:cNvSpPr/>
          <p:nvPr/>
        </p:nvSpPr>
        <p:spPr>
          <a:xfrm>
            <a:off x="2814480" y="1397160"/>
            <a:ext cx="365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208160" y="6035760"/>
            <a:ext cx="709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D</a:t>
            </a:r>
            <a:r>
              <a:rPr b="1" lang="id-ID" sz="1400" spc="-1" strike="noStrike">
                <a:solidFill>
                  <a:srgbClr val="002060"/>
                </a:solidFill>
                <a:latin typeface="Cambria"/>
              </a:rPr>
              <a:t>ISAMPAIKAN DALAM </a:t>
            </a: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KEGIATAN BIMBINGAN TEKNIS HUKUM ACARA DALAM PERKARA PERSELISIHAN HASIL PEMILIHAN UMUM TAHUN</a:t>
            </a:r>
            <a:r>
              <a:rPr b="1" i="1" lang="en-ID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TAHUN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795760" y="4727520"/>
            <a:ext cx="38271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Ole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Kepaniteraan dan Sekretariat Jende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sebagai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1FAD-13AB-4F1B-9A28-9487D40DDD0E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5"/>
          <p:cNvSpPr/>
          <p:nvPr/>
        </p:nvSpPr>
        <p:spPr>
          <a:xfrm>
            <a:off x="2938320" y="3240000"/>
            <a:ext cx="1646280" cy="118260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Cambria"/>
                <a:ea typeface="Cambria"/>
              </a:rPr>
              <a:t>Pengajuan Permohon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6838920" y="3523680"/>
            <a:ext cx="18637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</a:t>
            </a: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ight Arrow 20"/>
          <p:cNvSpPr/>
          <p:nvPr/>
        </p:nvSpPr>
        <p:spPr>
          <a:xfrm>
            <a:off x="2536920" y="3571920"/>
            <a:ext cx="318960" cy="49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4"/>
          <p:cNvGrpSpPr/>
          <p:nvPr/>
        </p:nvGrpSpPr>
        <p:grpSpPr>
          <a:xfrm>
            <a:off x="587520" y="2886120"/>
            <a:ext cx="1890720" cy="1920960"/>
            <a:chOff x="587520" y="2886120"/>
            <a:chExt cx="1890720" cy="1920960"/>
          </a:xfrm>
        </p:grpSpPr>
        <p:sp>
          <p:nvSpPr>
            <p:cNvPr id="220" name="Oval 25"/>
            <p:cNvSpPr/>
            <p:nvPr/>
          </p:nvSpPr>
          <p:spPr>
            <a:xfrm>
              <a:off x="587520" y="2886120"/>
              <a:ext cx="1890720" cy="192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587520" y="2886120"/>
              <a:ext cx="1890720" cy="192096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7"/>
            <p:cNvSpPr/>
            <p:nvPr/>
          </p:nvSpPr>
          <p:spPr>
            <a:xfrm>
              <a:off x="709920" y="3009240"/>
              <a:ext cx="1644120" cy="167940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8"/>
            <p:cNvSpPr/>
            <p:nvPr/>
          </p:nvSpPr>
          <p:spPr>
            <a:xfrm>
              <a:off x="709920" y="3009240"/>
              <a:ext cx="1644120" cy="16794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9"/>
            <p:cNvSpPr/>
            <p:nvPr/>
          </p:nvSpPr>
          <p:spPr>
            <a:xfrm>
              <a:off x="793440" y="3095280"/>
              <a:ext cx="1476000" cy="149976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13"/>
          <p:cNvSpPr/>
          <p:nvPr/>
        </p:nvSpPr>
        <p:spPr>
          <a:xfrm>
            <a:off x="677880" y="351540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2268360" y="4425840"/>
            <a:ext cx="3141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000000"/>
                </a:solidFill>
                <a:latin typeface="Cambria"/>
              </a:rPr>
              <a:t>Paling lama 2 (dua) hari kerja sejak permohonan dicatat dalam e-BRP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(22 - 23 Apr 20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Straight Arrow Connector 24" descr=""/>
          <p:cNvPicPr/>
          <p:nvPr/>
        </p:nvPicPr>
        <p:blipFill>
          <a:blip r:embed="rId1"/>
          <a:stretch/>
        </p:blipFill>
        <p:spPr>
          <a:xfrm>
            <a:off x="4456080" y="3529080"/>
            <a:ext cx="2693880" cy="718920"/>
          </a:xfrm>
          <a:prstGeom prst="rect">
            <a:avLst/>
          </a:prstGeom>
          <a:ln w="0">
            <a:noFill/>
          </a:ln>
        </p:spPr>
      </p:pic>
      <p:sp>
        <p:nvSpPr>
          <p:cNvPr id="228" name="Curved Right Arrow 25"/>
          <p:cNvSpPr/>
          <p:nvPr/>
        </p:nvSpPr>
        <p:spPr>
          <a:xfrm rot="5583600">
            <a:off x="5139360" y="923040"/>
            <a:ext cx="742680" cy="3783240"/>
          </a:xfrm>
          <a:custGeom>
            <a:avLst/>
            <a:gdLst>
              <a:gd name="textAreaLeft" fmla="*/ 99360 w 742680"/>
              <a:gd name="textAreaRight" fmla="*/ 643320 w 742680"/>
              <a:gd name="textAreaTop" fmla="*/ 875880 h 3783240"/>
              <a:gd name="textAreaBottom" fmla="*/ 2814480 h 378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5" stAng="-5400000" swAng="-5400000"/>
                <a:lnTo>
                  <a:pt x="0" y="11066"/>
                </a:lnTo>
                <a:arcTo wR="21600" hR="10005" stAng="10800000" swAng="-3279834"/>
                <a:lnTo>
                  <a:pt x="14861" y="21101"/>
                </a:lnTo>
                <a:lnTo>
                  <a:pt x="21600" y="20540"/>
                </a:lnTo>
                <a:lnTo>
                  <a:pt x="14861" y="18980"/>
                </a:lnTo>
                <a:lnTo>
                  <a:pt x="14861" y="19510"/>
                </a:lnTo>
                <a:arcTo wR="21600" hR="10005" stAng="7520166" swAng="3195300"/>
                <a:lnTo>
                  <a:pt x="30" y="10535"/>
                </a:lnTo>
                <a:arcTo wR="21600" hR="10005" stAng="-10715466" swAng="5315466"/>
                <a:close/>
              </a:path>
              <a:path fill="darkenLess" w="21600" h="21600">
                <a:moveTo>
                  <a:pt x="21600" y="0"/>
                </a:moveTo>
                <a:arcTo wR="21600" hR="10005" stAng="-5400000" swAng="-5400000"/>
                <a:lnTo>
                  <a:pt x="0" y="10005"/>
                </a:lnTo>
                <a:arcTo wR="21600" hR="10005" stAng="10800000" swAng="-84534"/>
                <a:lnTo>
                  <a:pt x="30" y="10535"/>
                </a:lnTo>
                <a:arcTo wR="21600" hR="10005" stAng="-10715466" swAng="531546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4584600" y="2589120"/>
            <a:ext cx="191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nyampaian Ketetapan Pihak Terk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mbria"/>
              </a:rPr>
              <a:t>23 - 24 Apr 2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4454640" y="3916080"/>
            <a:ext cx="25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Diterbitkan sebelum Sida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496800" y="1536840"/>
            <a:ext cx="3036960" cy="5091120"/>
          </a:xfrm>
          <a:prstGeom prst="rect">
            <a:avLst/>
          </a:prstGeom>
          <a:solidFill>
            <a:srgbClr val="fae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67212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RSID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9"/>
          <p:cNvSpPr/>
          <p:nvPr/>
        </p:nvSpPr>
        <p:spPr>
          <a:xfrm>
            <a:off x="6869160" y="640728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650F-BC5A-49DF-8C7F-BBDF178392CE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Rounded Rectangle 6"/>
          <p:cNvGrpSpPr/>
          <p:nvPr/>
        </p:nvGrpSpPr>
        <p:grpSpPr>
          <a:xfrm>
            <a:off x="676440" y="1762200"/>
            <a:ext cx="1238040" cy="768240"/>
            <a:chOff x="676440" y="1762200"/>
            <a:chExt cx="1238040" cy="768240"/>
          </a:xfrm>
        </p:grpSpPr>
        <p:pic>
          <p:nvPicPr>
            <p:cNvPr id="235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676440" y="1762200"/>
              <a:ext cx="12380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70040" y="1832040"/>
              <a:ext cx="1050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Rounded Rectangle 7"/>
          <p:cNvGrpSpPr/>
          <p:nvPr/>
        </p:nvGrpSpPr>
        <p:grpSpPr>
          <a:xfrm>
            <a:off x="3713040" y="1889280"/>
            <a:ext cx="693720" cy="536400"/>
            <a:chOff x="3713040" y="1889280"/>
            <a:chExt cx="693720" cy="536400"/>
          </a:xfrm>
        </p:grpSpPr>
        <p:pic>
          <p:nvPicPr>
            <p:cNvPr id="238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3713040" y="1889280"/>
              <a:ext cx="693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790800" y="1947960"/>
              <a:ext cx="528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ounded Rectangle 8"/>
          <p:cNvSpPr/>
          <p:nvPr/>
        </p:nvSpPr>
        <p:spPr>
          <a:xfrm>
            <a:off x="592200" y="2765520"/>
            <a:ext cx="1407960" cy="1158840"/>
          </a:xfrm>
          <a:prstGeom prst="roundRect">
            <a:avLst>
              <a:gd name="adj" fmla="val 10023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2154240" y="2765520"/>
            <a:ext cx="1252440" cy="2211120"/>
          </a:xfrm>
          <a:custGeom>
            <a:avLst/>
            <a:gdLst>
              <a:gd name="textAreaLeft" fmla="*/ 36720 w 1252440"/>
              <a:gd name="textAreaRight" fmla="*/ 1215720 w 1252440"/>
              <a:gd name="textAreaTop" fmla="*/ 36720 h 2211120"/>
              <a:gd name="textAreaBottom" fmla="*/ 2174400 h 2211120"/>
            </a:gdLst>
            <a:ahLst/>
            <a:rect l="textAreaLeft" t="textAreaTop" r="textAreaRight" b="textAreaBottom"/>
            <a:pathLst>
              <a:path w="21600" h="38129">
                <a:moveTo>
                  <a:pt x="2164" y="0"/>
                </a:moveTo>
                <a:arcTo wR="2164" hR="2164" stAng="16200000" swAng="-5400000"/>
                <a:lnTo>
                  <a:pt x="0" y="35965"/>
                </a:lnTo>
                <a:arcTo wR="2164" hR="2164" stAng="10800000" swAng="-5400000"/>
                <a:lnTo>
                  <a:pt x="19436" y="38129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0"/>
          <p:cNvSpPr/>
          <p:nvPr/>
        </p:nvSpPr>
        <p:spPr>
          <a:xfrm>
            <a:off x="4813200" y="3602160"/>
            <a:ext cx="1301760" cy="98244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1"/>
          <p:cNvSpPr/>
          <p:nvPr/>
        </p:nvSpPr>
        <p:spPr>
          <a:xfrm>
            <a:off x="3571920" y="2776680"/>
            <a:ext cx="971640" cy="639720"/>
          </a:xfrm>
          <a:prstGeom prst="roundRect">
            <a:avLst>
              <a:gd name="adj" fmla="val 1121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2"/>
          <p:cNvSpPr/>
          <p:nvPr/>
        </p:nvSpPr>
        <p:spPr>
          <a:xfrm>
            <a:off x="6478560" y="3594240"/>
            <a:ext cx="93204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ight Arrow 14"/>
          <p:cNvSpPr/>
          <p:nvPr/>
        </p:nvSpPr>
        <p:spPr>
          <a:xfrm>
            <a:off x="1893960" y="200808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5"/>
          <p:cNvSpPr/>
          <p:nvPr/>
        </p:nvSpPr>
        <p:spPr>
          <a:xfrm>
            <a:off x="4056120" y="2344680"/>
            <a:ext cx="1440" cy="43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ounded Rectangle 16"/>
          <p:cNvGrpSpPr/>
          <p:nvPr/>
        </p:nvGrpSpPr>
        <p:grpSpPr>
          <a:xfrm>
            <a:off x="2157480" y="1762200"/>
            <a:ext cx="1238040" cy="768240"/>
            <a:chOff x="2157480" y="1762200"/>
            <a:chExt cx="1238040" cy="768240"/>
          </a:xfrm>
        </p:grpSpPr>
        <p:pic>
          <p:nvPicPr>
            <p:cNvPr id="248" name="Rounded Rectangle 16" descr=""/>
            <p:cNvPicPr/>
            <p:nvPr/>
          </p:nvPicPr>
          <p:blipFill>
            <a:blip r:embed="rId3"/>
            <a:stretch/>
          </p:blipFill>
          <p:spPr>
            <a:xfrm>
              <a:off x="2157480" y="1762200"/>
              <a:ext cx="12380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251080" y="1832040"/>
              <a:ext cx="1052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Rounded Rectangle 17"/>
          <p:cNvGrpSpPr/>
          <p:nvPr/>
        </p:nvGrpSpPr>
        <p:grpSpPr>
          <a:xfrm>
            <a:off x="4840200" y="2444760"/>
            <a:ext cx="1231920" cy="963720"/>
            <a:chOff x="4840200" y="2444760"/>
            <a:chExt cx="1231920" cy="963720"/>
          </a:xfrm>
        </p:grpSpPr>
        <p:pic>
          <p:nvPicPr>
            <p:cNvPr id="251" name="Rounded Rectangle 17" descr=""/>
            <p:cNvPicPr/>
            <p:nvPr/>
          </p:nvPicPr>
          <p:blipFill>
            <a:blip r:embed="rId4"/>
            <a:stretch/>
          </p:blipFill>
          <p:spPr>
            <a:xfrm>
              <a:off x="4840200" y="2444760"/>
              <a:ext cx="123192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938840" y="2522520"/>
              <a:ext cx="103500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PANEL/ SIDANG </a:t>
              </a:r>
              <a:r>
                <a:rPr b="1" lang="en-US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rsidangan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Lanjut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Rounded Rectangle 18"/>
          <p:cNvGrpSpPr/>
          <p:nvPr/>
        </p:nvGrpSpPr>
        <p:grpSpPr>
          <a:xfrm>
            <a:off x="6576840" y="2584440"/>
            <a:ext cx="695520" cy="536760"/>
            <a:chOff x="6576840" y="2584440"/>
            <a:chExt cx="695520" cy="536760"/>
          </a:xfrm>
        </p:grpSpPr>
        <p:pic>
          <p:nvPicPr>
            <p:cNvPr id="254" name="Rounded Rectangle 18" descr=""/>
            <p:cNvPicPr/>
            <p:nvPr/>
          </p:nvPicPr>
          <p:blipFill>
            <a:blip r:embed="rId5"/>
            <a:stretch/>
          </p:blipFill>
          <p:spPr>
            <a:xfrm>
              <a:off x="6576840" y="2584440"/>
              <a:ext cx="6955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6659640" y="2639880"/>
              <a:ext cx="5284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Rounded Rectangle 19"/>
          <p:cNvGrpSpPr/>
          <p:nvPr/>
        </p:nvGrpSpPr>
        <p:grpSpPr>
          <a:xfrm>
            <a:off x="7711920" y="2517840"/>
            <a:ext cx="1047960" cy="682560"/>
            <a:chOff x="7711920" y="2517840"/>
            <a:chExt cx="1047960" cy="682560"/>
          </a:xfrm>
        </p:grpSpPr>
        <p:pic>
          <p:nvPicPr>
            <p:cNvPr id="257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7711920" y="2517840"/>
              <a:ext cx="1047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796160" y="2583000"/>
              <a:ext cx="8762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Right Arrow 21"/>
          <p:cNvSpPr/>
          <p:nvPr/>
        </p:nvSpPr>
        <p:spPr>
          <a:xfrm>
            <a:off x="7327800" y="2692440"/>
            <a:ext cx="308160" cy="27468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ight Arrow 22"/>
          <p:cNvSpPr/>
          <p:nvPr/>
        </p:nvSpPr>
        <p:spPr>
          <a:xfrm>
            <a:off x="6164280" y="2705040"/>
            <a:ext cx="306360" cy="2746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ight Arrow 23"/>
          <p:cNvSpPr/>
          <p:nvPr/>
        </p:nvSpPr>
        <p:spPr>
          <a:xfrm>
            <a:off x="4384800" y="2004840"/>
            <a:ext cx="307800" cy="273240"/>
          </a:xfrm>
          <a:prstGeom prst="rightArrow">
            <a:avLst>
              <a:gd name="adj1" fmla="val 50000"/>
              <a:gd name="adj2" fmla="val 49935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ight Arrow 24"/>
          <p:cNvSpPr/>
          <p:nvPr/>
        </p:nvSpPr>
        <p:spPr>
          <a:xfrm>
            <a:off x="3419640" y="2008080"/>
            <a:ext cx="306360" cy="27324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25"/>
          <p:cNvSpPr/>
          <p:nvPr/>
        </p:nvSpPr>
        <p:spPr>
          <a:xfrm>
            <a:off x="1295280" y="2443320"/>
            <a:ext cx="180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26"/>
          <p:cNvSpPr/>
          <p:nvPr/>
        </p:nvSpPr>
        <p:spPr>
          <a:xfrm>
            <a:off x="2776680" y="2443320"/>
            <a:ext cx="468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5456160" y="3297240"/>
            <a:ext cx="792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9"/>
          <p:cNvSpPr/>
          <p:nvPr/>
        </p:nvSpPr>
        <p:spPr>
          <a:xfrm>
            <a:off x="6935760" y="3033720"/>
            <a:ext cx="7920" cy="560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Rounded Rectangle 30"/>
          <p:cNvGrpSpPr/>
          <p:nvPr/>
        </p:nvGrpSpPr>
        <p:grpSpPr>
          <a:xfrm>
            <a:off x="4711680" y="1341360"/>
            <a:ext cx="1457280" cy="773280"/>
            <a:chOff x="4711680" y="1341360"/>
            <a:chExt cx="1457280" cy="773280"/>
          </a:xfrm>
        </p:grpSpPr>
        <p:pic>
          <p:nvPicPr>
            <p:cNvPr id="268" name="Rounded Rectangle 30" descr=""/>
            <p:cNvPicPr/>
            <p:nvPr/>
          </p:nvPicPr>
          <p:blipFill>
            <a:blip r:embed="rId7"/>
            <a:stretch/>
          </p:blipFill>
          <p:spPr>
            <a:xfrm>
              <a:off x="4711680" y="1341360"/>
              <a:ext cx="1457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803840" y="1413000"/>
              <a:ext cx="12747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</a:t>
              </a:r>
              <a:r>
                <a:rPr b="1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id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r>
                <a:rPr b="1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ngucapan Putusan/Ketetap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ounded Rectangle 31"/>
          <p:cNvSpPr/>
          <p:nvPr/>
        </p:nvSpPr>
        <p:spPr>
          <a:xfrm>
            <a:off x="7780320" y="3606840"/>
            <a:ext cx="97776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32"/>
          <p:cNvSpPr/>
          <p:nvPr/>
        </p:nvSpPr>
        <p:spPr>
          <a:xfrm>
            <a:off x="8265960" y="3146400"/>
            <a:ext cx="324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Rounded Rectangle 40"/>
          <p:cNvGrpSpPr/>
          <p:nvPr/>
        </p:nvGrpSpPr>
        <p:grpSpPr>
          <a:xfrm>
            <a:off x="944640" y="5016600"/>
            <a:ext cx="2305080" cy="1390680"/>
            <a:chOff x="944640" y="5016600"/>
            <a:chExt cx="2305080" cy="1390680"/>
          </a:xfrm>
        </p:grpSpPr>
        <p:pic>
          <p:nvPicPr>
            <p:cNvPr id="273" name="Rounded Rectangle 40" descr=""/>
            <p:cNvPicPr/>
            <p:nvPr/>
          </p:nvPicPr>
          <p:blipFill>
            <a:blip r:embed="rId8"/>
            <a:stretch/>
          </p:blipFill>
          <p:spPr>
            <a:xfrm>
              <a:off x="944640" y="5016600"/>
              <a:ext cx="230508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82520" y="5153040"/>
              <a:ext cx="197496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yerah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traight Connector 41"/>
          <p:cNvSpPr/>
          <p:nvPr/>
        </p:nvSpPr>
        <p:spPr>
          <a:xfrm>
            <a:off x="2076480" y="2333520"/>
            <a:ext cx="17280" cy="280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7"/>
          <p:cNvSpPr/>
          <p:nvPr/>
        </p:nvSpPr>
        <p:spPr>
          <a:xfrm>
            <a:off x="1392120" y="627552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6 Mei – 14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666720" y="4129200"/>
            <a:ext cx="1301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26 Apr – 6 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7"/>
          <p:cNvSpPr/>
          <p:nvPr/>
        </p:nvSpPr>
        <p:spPr>
          <a:xfrm>
            <a:off x="3427560" y="467352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7 Mei – 15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7"/>
          <p:cNvSpPr/>
          <p:nvPr/>
        </p:nvSpPr>
        <p:spPr>
          <a:xfrm>
            <a:off x="3540240" y="3495600"/>
            <a:ext cx="110160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15 – 17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r>
              <a:rPr b="0" lang="en-AU" sz="9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7"/>
          <p:cNvSpPr/>
          <p:nvPr/>
        </p:nvSpPr>
        <p:spPr>
          <a:xfrm>
            <a:off x="4897440" y="2073240"/>
            <a:ext cx="1069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0 – 22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7"/>
          <p:cNvSpPr/>
          <p:nvPr/>
        </p:nvSpPr>
        <p:spPr>
          <a:xfrm>
            <a:off x="4889520" y="4703760"/>
            <a:ext cx="114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4 – 28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7"/>
          <p:cNvSpPr/>
          <p:nvPr/>
        </p:nvSpPr>
        <p:spPr>
          <a:xfrm>
            <a:off x="6375240" y="4327560"/>
            <a:ext cx="1204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9 Mei - 3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7"/>
          <p:cNvSpPr/>
          <p:nvPr/>
        </p:nvSpPr>
        <p:spPr>
          <a:xfrm>
            <a:off x="7674120" y="4505400"/>
            <a:ext cx="1231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4 -  5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2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3009960"/>
            <a:ext cx="9361440" cy="947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PERSELISIHAN HASIL PEMILIHAN U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PRESIDEN DAN WAKIL PRESIDEN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E74B-BAF6-40EE-A2AB-6DC3E66B18AD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66024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</a:t>
            </a: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3583-717D-4DEB-A642-CF2C431FBFC3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455760" y="1576440"/>
            <a:ext cx="849924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gajuan Permohonan Pemoh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yampaian laporan Permohonan dalam RP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Pencatatan permohonan dalam e-BRP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yampaian Salinan Permohonan Pemohon kepada </a:t>
            </a: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Termohon dan Bawas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gajuan Permohonan sebagai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RPH mengenai Permohonan sebagai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Ketetapan sebagai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yampaian Salinan Permohonan kepada Pihak Terka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Bawas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meriksaan Pendahulu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Penyerahan Jawaban Termohon, Keterangan Pihak Terkait dan Keterangan Bawasl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meriksaan Persidang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Pelaksanaan RPH Pembahasan Perka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gucapan Putusan</a:t>
            </a: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Penyerahan</a:t>
            </a: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/penyampaian</a:t>
            </a:r>
            <a:r>
              <a:rPr b="1" lang="id-ID" sz="1700" spc="-1" strike="noStrike">
                <a:solidFill>
                  <a:srgbClr val="002060"/>
                </a:solidFill>
                <a:latin typeface="Cambria"/>
                <a:ea typeface="Arial"/>
              </a:rPr>
              <a:t> salinan Putusan</a:t>
            </a:r>
            <a:r>
              <a:rPr b="1" lang="en-US" sz="1700" spc="-1" strike="noStrike">
                <a:solidFill>
                  <a:srgbClr val="002060"/>
                </a:solidFill>
                <a:latin typeface="Cambria"/>
                <a:ea typeface="Arial"/>
              </a:rPr>
              <a:t> mahkamah </a:t>
            </a:r>
            <a:r>
              <a:rPr b="1" sz="1700" spc="-1" strike="noStrike">
                <a:solidFill>
                  <a:srgbClr val="002060"/>
                </a:solidFill>
                <a:latin typeface="Cambria"/>
                <a:ea typeface="Arial"/>
              </a:rPr>
              <a:t>Ketetapan Mahkama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0" y="63324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C855-FE71-4AFB-918D-63B8C9350E3A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0" descr=""/>
          <p:cNvPicPr/>
          <p:nvPr/>
        </p:nvPicPr>
        <p:blipFill>
          <a:blip r:embed="rId1"/>
          <a:stretch/>
        </p:blipFill>
        <p:spPr>
          <a:xfrm>
            <a:off x="3666960" y="156204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3"/>
          <p:cNvSpPr/>
          <p:nvPr/>
        </p:nvSpPr>
        <p:spPr>
          <a:xfrm>
            <a:off x="4403880" y="327024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unded Rectangle 46"/>
          <p:cNvSpPr/>
          <p:nvPr/>
        </p:nvSpPr>
        <p:spPr>
          <a:xfrm>
            <a:off x="1492200" y="3878280"/>
            <a:ext cx="649620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entagon 83"/>
          <p:cNvSpPr/>
          <p:nvPr/>
        </p:nvSpPr>
        <p:spPr>
          <a:xfrm>
            <a:off x="1795320" y="4392720"/>
            <a:ext cx="1898640" cy="35856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59" y="0"/>
                </a:lnTo>
                <a:lnTo>
                  <a:pt x="21600" y="10800"/>
                </a:lnTo>
                <a:lnTo>
                  <a:pt x="195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entagon 91"/>
          <p:cNvSpPr/>
          <p:nvPr/>
        </p:nvSpPr>
        <p:spPr>
          <a:xfrm>
            <a:off x="3833640" y="4386240"/>
            <a:ext cx="1965600" cy="360360"/>
          </a:xfrm>
          <a:custGeom>
            <a:avLst/>
            <a:gdLst>
              <a:gd name="textAreaLeft" fmla="*/ 0 w 1965600"/>
              <a:gd name="textAreaRight" fmla="*/ 1965960 w 1965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0" y="0"/>
                </a:lnTo>
                <a:lnTo>
                  <a:pt x="21600" y="10800"/>
                </a:lnTo>
                <a:lnTo>
                  <a:pt x="19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03"/>
          <p:cNvSpPr/>
          <p:nvPr/>
        </p:nvSpPr>
        <p:spPr>
          <a:xfrm>
            <a:off x="617400" y="2028960"/>
            <a:ext cx="26942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hari setelah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engumuman K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46"/>
          <p:cNvSpPr/>
          <p:nvPr/>
        </p:nvSpPr>
        <p:spPr>
          <a:xfrm>
            <a:off x="1492200" y="5208480"/>
            <a:ext cx="6496200" cy="1214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entagon 106"/>
          <p:cNvSpPr/>
          <p:nvPr/>
        </p:nvSpPr>
        <p:spPr>
          <a:xfrm>
            <a:off x="1847880" y="5722920"/>
            <a:ext cx="1950840" cy="358920"/>
          </a:xfrm>
          <a:custGeom>
            <a:avLst/>
            <a:gdLst>
              <a:gd name="textAreaLeft" fmla="*/ 0 w 1950840"/>
              <a:gd name="textAreaRight" fmla="*/ 1951200 w 1950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14" y="0"/>
                </a:lnTo>
                <a:lnTo>
                  <a:pt x="21600" y="10800"/>
                </a:lnTo>
                <a:lnTo>
                  <a:pt x="19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Mrt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entagon 107"/>
          <p:cNvSpPr/>
          <p:nvPr/>
        </p:nvSpPr>
        <p:spPr>
          <a:xfrm>
            <a:off x="3938760" y="5716440"/>
            <a:ext cx="1965240" cy="360360"/>
          </a:xfrm>
          <a:custGeom>
            <a:avLst/>
            <a:gdLst>
              <a:gd name="textAreaLeft" fmla="*/ 0 w 1965240"/>
              <a:gd name="textAreaRight" fmla="*/ 1965600 w 19652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0" y="0"/>
                </a:lnTo>
                <a:lnTo>
                  <a:pt x="21600" y="10800"/>
                </a:lnTo>
                <a:lnTo>
                  <a:pt x="19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peech Bubble: Oval 10"/>
          <p:cNvSpPr/>
          <p:nvPr/>
        </p:nvSpPr>
        <p:spPr>
          <a:xfrm>
            <a:off x="5830920" y="1305000"/>
            <a:ext cx="2806560" cy="18064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8"/>
          <p:cNvSpPr/>
          <p:nvPr/>
        </p:nvSpPr>
        <p:spPr>
          <a:xfrm>
            <a:off x="6118200" y="1525680"/>
            <a:ext cx="223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ilpres Tahun 2024 (Puturan 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9"/>
          <p:cNvSpPr/>
          <p:nvPr/>
        </p:nvSpPr>
        <p:spPr>
          <a:xfrm>
            <a:off x="6118200" y="2266920"/>
            <a:ext cx="2238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c00000"/>
                </a:solidFill>
                <a:latin typeface="Cambria"/>
              </a:rPr>
              <a:t>Pengumuman Hasil Pilpres Tahun 2024 (Puturan 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c00000"/>
                </a:solidFill>
                <a:latin typeface="Cambria"/>
              </a:rPr>
              <a:t>27 Jun – 27 Jul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6064200" y="5645160"/>
            <a:ext cx="170028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Sabtu 23 Mrt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5938920" y="4314960"/>
            <a:ext cx="172080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Minggu 18 Feb 2024, 24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D5A0-3E89-4683-85BD-4B57CF0F1A4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5"/>
          <p:cNvGrpSpPr/>
          <p:nvPr/>
        </p:nvGrpSpPr>
        <p:grpSpPr>
          <a:xfrm>
            <a:off x="428400" y="1562760"/>
            <a:ext cx="8452080" cy="4444200"/>
            <a:chOff x="428400" y="1562760"/>
            <a:chExt cx="8452080" cy="4444200"/>
          </a:xfrm>
        </p:grpSpPr>
        <p:grpSp>
          <p:nvGrpSpPr>
            <p:cNvPr id="308" name="Group 53"/>
            <p:cNvGrpSpPr/>
            <p:nvPr/>
          </p:nvGrpSpPr>
          <p:grpSpPr>
            <a:xfrm>
              <a:off x="428400" y="1562760"/>
              <a:ext cx="8452080" cy="4444200"/>
              <a:chOff x="428400" y="1562760"/>
              <a:chExt cx="8452080" cy="4444200"/>
            </a:xfrm>
          </p:grpSpPr>
          <p:sp>
            <p:nvSpPr>
              <p:cNvPr id="309" name="Rectangle 47"/>
              <p:cNvSpPr/>
              <p:nvPr/>
            </p:nvSpPr>
            <p:spPr>
              <a:xfrm>
                <a:off x="3243240" y="2330280"/>
                <a:ext cx="1296720" cy="5252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ngaju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48"/>
              <p:cNvSpPr/>
              <p:nvPr/>
            </p:nvSpPr>
            <p:spPr>
              <a:xfrm>
                <a:off x="6711840" y="5374800"/>
                <a:ext cx="704880" cy="261360"/>
              </a:xfrm>
              <a:prstGeom prst="rect">
                <a:avLst/>
              </a:prstGeom>
              <a:solidFill>
                <a:srgbClr val="00b05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1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ARP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Box 22"/>
              <p:cNvSpPr/>
              <p:nvPr/>
            </p:nvSpPr>
            <p:spPr>
              <a:xfrm>
                <a:off x="4968720" y="2597040"/>
                <a:ext cx="24912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64"/>
              <p:cNvSpPr/>
              <p:nvPr/>
            </p:nvSpPr>
            <p:spPr>
              <a:xfrm>
                <a:off x="8468640" y="4324320"/>
                <a:ext cx="17604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1"/>
              <p:cNvSpPr/>
              <p:nvPr/>
            </p:nvSpPr>
            <p:spPr>
              <a:xfrm>
                <a:off x="826920" y="2252520"/>
                <a:ext cx="1172880" cy="119520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marL="174600" indent="-174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4600" indent="-174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4600" indent="-1746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52"/>
              <p:cNvSpPr/>
              <p:nvPr/>
            </p:nvSpPr>
            <p:spPr>
              <a:xfrm>
                <a:off x="826920" y="3448080"/>
                <a:ext cx="1172880" cy="312480"/>
              </a:xfrm>
              <a:prstGeom prst="rect">
                <a:avLst/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5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Feb 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– 2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0</a:t>
                </a: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 Mrt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 202</a:t>
                </a:r>
                <a:r>
                  <a:rPr b="1" lang="en-AU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" name="Group 21"/>
              <p:cNvGrpSpPr/>
              <p:nvPr/>
            </p:nvGrpSpPr>
            <p:grpSpPr>
              <a:xfrm>
                <a:off x="7839000" y="2595240"/>
                <a:ext cx="1041480" cy="809280"/>
                <a:chOff x="7839000" y="2595240"/>
                <a:chExt cx="1041480" cy="809280"/>
              </a:xfrm>
            </p:grpSpPr>
            <p:sp>
              <p:nvSpPr>
                <p:cNvPr id="316" name="Rounded Rectangle 94"/>
                <p:cNvSpPr/>
                <p:nvPr/>
              </p:nvSpPr>
              <p:spPr>
                <a:xfrm>
                  <a:off x="7839000" y="2595240"/>
                  <a:ext cx="1041480" cy="53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70c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2560" rIns="5256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2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e-BRPK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Rounded Rectangle 101"/>
                <p:cNvSpPr/>
                <p:nvPr/>
              </p:nvSpPr>
              <p:spPr>
                <a:xfrm>
                  <a:off x="7839000" y="3144240"/>
                  <a:ext cx="1041480" cy="260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dec98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2560" rIns="5256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25 Maret 202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1"/>
              <p:cNvGrpSpPr/>
              <p:nvPr/>
            </p:nvGrpSpPr>
            <p:grpSpPr>
              <a:xfrm>
                <a:off x="1979280" y="2305080"/>
                <a:ext cx="1272960" cy="917280"/>
                <a:chOff x="1979280" y="2305080"/>
                <a:chExt cx="1272960" cy="917280"/>
              </a:xfrm>
            </p:grpSpPr>
            <p:grpSp>
              <p:nvGrpSpPr>
                <p:cNvPr id="319" name="Group 146"/>
                <p:cNvGrpSpPr/>
                <p:nvPr/>
              </p:nvGrpSpPr>
              <p:grpSpPr>
                <a:xfrm>
                  <a:off x="1979280" y="2305080"/>
                  <a:ext cx="1230120" cy="917280"/>
                  <a:chOff x="1979280" y="2305080"/>
                  <a:chExt cx="1230120" cy="917280"/>
                </a:xfrm>
              </p:grpSpPr>
              <p:sp>
                <p:nvSpPr>
                  <p:cNvPr id="320" name="TextBox 23"/>
                  <p:cNvSpPr/>
                  <p:nvPr/>
                </p:nvSpPr>
                <p:spPr>
                  <a:xfrm>
                    <a:off x="1979280" y="2595240"/>
                    <a:ext cx="1230120" cy="62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Cambria"/>
                        <a:ea typeface="Cambria"/>
                      </a:rPr>
                      <a:t>3 (tiga) hari </a:t>
                    </a:r>
                    <a:r>
                      <a:rPr b="1" lang="en-US" sz="900" spc="-1" strike="noStrike">
                        <a:solidFill>
                          <a:srgbClr val="c00000"/>
                        </a:solidFill>
                        <a:latin typeface="Cambria"/>
                        <a:ea typeface="Cambria"/>
                      </a:rPr>
                      <a:t>setelah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c00000"/>
                        </a:solidFill>
                        <a:latin typeface="Cambria"/>
                        <a:ea typeface="Cambria"/>
                      </a:rPr>
                      <a:t> </a:t>
                    </a: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Cambria"/>
                        <a:ea typeface="Cambria"/>
                      </a:rPr>
                      <a:t>penetapan oleh KPU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TextBox 23"/>
                  <p:cNvSpPr/>
                  <p:nvPr/>
                </p:nvSpPr>
                <p:spPr>
                  <a:xfrm>
                    <a:off x="2543760" y="2305080"/>
                    <a:ext cx="238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c00000"/>
                        </a:solidFill>
                        <a:latin typeface="Cambria"/>
                        <a:ea typeface="Cambria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322" name="Straight Arrow Connector 106"/>
                <p:cNvCxnSpPr/>
                <p:nvPr/>
              </p:nvCxnSpPr>
              <p:spPr>
                <a:xfrm>
                  <a:off x="1999440" y="2839680"/>
                  <a:ext cx="1253160" cy="10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23" name="TextBox 22"/>
              <p:cNvSpPr/>
              <p:nvPr/>
            </p:nvSpPr>
            <p:spPr>
              <a:xfrm>
                <a:off x="7230960" y="2620800"/>
                <a:ext cx="37908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65"/>
              <p:cNvSpPr/>
              <p:nvPr/>
            </p:nvSpPr>
            <p:spPr>
              <a:xfrm>
                <a:off x="3243240" y="2867040"/>
                <a:ext cx="1301760" cy="428400"/>
              </a:xfrm>
              <a:prstGeom prst="rect">
                <a:avLst/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0 Mrt - 23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ounded Rectangle 124"/>
              <p:cNvSpPr/>
              <p:nvPr/>
            </p:nvSpPr>
            <p:spPr>
              <a:xfrm>
                <a:off x="6540480" y="5653080"/>
                <a:ext cx="1081080" cy="353880"/>
              </a:xfrm>
              <a:prstGeom prst="roundRect">
                <a:avLst>
                  <a:gd name="adj" fmla="val 16667"/>
                </a:avLst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5 Maret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(pen</a:t>
                </a:r>
                <a:r>
                  <a:rPr b="1" lang="en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erbitan</a:t>
                </a:r>
                <a:r>
                  <a:rPr b="1" lang="id-ID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)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ounded Rectangle 131"/>
              <p:cNvSpPr/>
              <p:nvPr/>
            </p:nvSpPr>
            <p:spPr>
              <a:xfrm>
                <a:off x="5678640" y="2624040"/>
                <a:ext cx="1452600" cy="466560"/>
              </a:xfrm>
              <a:prstGeom prst="roundRect">
                <a:avLst>
                  <a:gd name="adj" fmla="val 16667"/>
                </a:avLst>
              </a:prstGeom>
              <a:solidFill>
                <a:srgbClr val="fdec9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rsiapan Registras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5 Maret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7" name="Straight Arrow Connector 87"/>
              <p:cNvCxnSpPr>
                <a:stCxn id="326" idx="3"/>
                <a:endCxn id="316" idx="1"/>
              </p:cNvCxnSpPr>
              <p:nvPr/>
            </p:nvCxnSpPr>
            <p:spPr>
              <a:xfrm>
                <a:off x="7131240" y="2857320"/>
                <a:ext cx="708480" cy="86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8" name="Rectangle 88"/>
              <p:cNvSpPr/>
              <p:nvPr/>
            </p:nvSpPr>
            <p:spPr>
              <a:xfrm>
                <a:off x="3570120" y="4689720"/>
                <a:ext cx="498240" cy="205200"/>
              </a:xfrm>
              <a:prstGeom prst="rect">
                <a:avLst/>
              </a:prstGeom>
              <a:solidFill>
                <a:srgbClr val="00b05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AP</a:t>
                </a: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9" name="Straight Arrow Connector 89"/>
              <p:cNvCxnSpPr/>
              <p:nvPr/>
            </p:nvCxnSpPr>
            <p:spPr>
              <a:xfrm>
                <a:off x="3819240" y="3287160"/>
                <a:ext cx="2160" cy="6498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30" name="Rectangle 91"/>
              <p:cNvSpPr/>
              <p:nvPr/>
            </p:nvSpPr>
            <p:spPr>
              <a:xfrm>
                <a:off x="3511440" y="3977280"/>
                <a:ext cx="623880" cy="205200"/>
              </a:xfrm>
              <a:prstGeom prst="rect">
                <a:avLst/>
              </a:prstGeom>
              <a:solidFill>
                <a:srgbClr val="00b05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P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1" name="Straight Arrow Connector 99"/>
              <p:cNvCxnSpPr/>
              <p:nvPr/>
            </p:nvCxnSpPr>
            <p:spPr>
              <a:xfrm>
                <a:off x="3831840" y="4248000"/>
                <a:ext cx="1080" cy="4068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32" name="Rectangle 100"/>
              <p:cNvSpPr/>
              <p:nvPr/>
            </p:nvSpPr>
            <p:spPr>
              <a:xfrm>
                <a:off x="2787480" y="1562760"/>
                <a:ext cx="1315800" cy="246240"/>
              </a:xfrm>
              <a:prstGeom prst="rect">
                <a:avLst/>
              </a:prstGeom>
              <a:solidFill>
                <a:srgbClr val="00b0f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3" name="Elbow Connector 69"/>
              <p:cNvCxnSpPr>
                <a:stCxn id="310" idx="1"/>
                <a:endCxn id="332" idx="1"/>
              </p:cNvCxnSpPr>
              <p:nvPr/>
            </p:nvCxnSpPr>
            <p:spPr>
              <a:xfrm rot="10800000">
                <a:off x="2786760" y="1685160"/>
                <a:ext cx="3925080" cy="3820320"/>
              </a:xfrm>
              <a:prstGeom prst="bentConnector3">
                <a:avLst>
                  <a:gd name="adj1" fmla="val 152724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34" name="Straight Arrow Connector 102"/>
              <p:cNvCxnSpPr/>
              <p:nvPr/>
            </p:nvCxnSpPr>
            <p:spPr>
              <a:xfrm>
                <a:off x="4502160" y="2860200"/>
                <a:ext cx="118656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35" name="Rectangle 264"/>
              <p:cNvSpPr/>
              <p:nvPr/>
            </p:nvSpPr>
            <p:spPr>
              <a:xfrm>
                <a:off x="7753320" y="5178600"/>
                <a:ext cx="171360" cy="20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2560" rIns="52560" tIns="26280" bIns="26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6" name="Elbow Connector 60"/>
              <p:cNvCxnSpPr>
                <a:stCxn id="328" idx="2"/>
                <a:endCxn id="332" idx="1"/>
              </p:cNvCxnSpPr>
              <p:nvPr/>
            </p:nvCxnSpPr>
            <p:spPr>
              <a:xfrm flipV="1" rot="16200000">
                <a:off x="1674000" y="2797920"/>
                <a:ext cx="3258360" cy="1032480"/>
              </a:xfrm>
              <a:prstGeom prst="bentConnector4">
                <a:avLst>
                  <a:gd name="adj1" fmla="val -7016"/>
                  <a:gd name="adj2" fmla="val 328531"/>
                </a:avLst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37" name="TextBox 23"/>
            <p:cNvSpPr/>
            <p:nvPr/>
          </p:nvSpPr>
          <p:spPr>
            <a:xfrm>
              <a:off x="4693320" y="5227560"/>
              <a:ext cx="1497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000" spc="-1" strike="noStrike">
                  <a:solidFill>
                    <a:srgbClr val="002060"/>
                  </a:solidFill>
                  <a:latin typeface="Cambria"/>
                </a:rPr>
                <a:t>Penyampaian 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00000"/>
                  </a:solidFill>
                  <a:latin typeface="Cambria"/>
                </a:rPr>
                <a:t>25 Maret 20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23"/>
            <p:cNvSpPr/>
            <p:nvPr/>
          </p:nvSpPr>
          <p:spPr>
            <a:xfrm>
              <a:off x="1079280" y="4599000"/>
              <a:ext cx="2406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000" spc="-1" strike="noStrike">
                  <a:solidFill>
                    <a:srgbClr val="000000"/>
                  </a:solidFill>
                  <a:latin typeface="Cambria"/>
                </a:rPr>
                <a:t>Penerbitan dan Penyampaian A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D" sz="1000" spc="-1" strike="noStrike">
                  <a:solidFill>
                    <a:srgbClr val="c00000"/>
                  </a:solidFill>
                  <a:latin typeface="Cambria"/>
                </a:rPr>
                <a:t>(15 – 18 Feb 2024,  20 – 23 Mrt 202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9" name="Elbow Connector 69"/>
          <p:cNvCxnSpPr>
            <a:stCxn id="317" idx="2"/>
            <a:endCxn id="310" idx="3"/>
          </p:cNvCxnSpPr>
          <p:nvPr/>
        </p:nvCxnSpPr>
        <p:spPr>
          <a:xfrm rot="5400000">
            <a:off x="6837480" y="3983760"/>
            <a:ext cx="2100960" cy="943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0" name="Rectangle 2"/>
          <p:cNvSpPr/>
          <p:nvPr/>
        </p:nvSpPr>
        <p:spPr>
          <a:xfrm>
            <a:off x="895320" y="2284560"/>
            <a:ext cx="103356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ngumum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netap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roleh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suara hasi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Pemilu seca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n</a:t>
            </a: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asional</a:t>
            </a:r>
            <a:r>
              <a:rPr b="1" lang="id-ID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oleh</a:t>
            </a:r>
            <a:r>
              <a:rPr b="1" lang="id-ID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1500" spc="-1" strike="noStrike" baseline="30000">
                <a:solidFill>
                  <a:srgbClr val="ffffff"/>
                </a:solidFill>
                <a:latin typeface="Cambria"/>
                <a:ea typeface="Cambria"/>
              </a:rPr>
              <a:t>KP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12"/>
          <p:cNvSpPr/>
          <p:nvPr/>
        </p:nvSpPr>
        <p:spPr>
          <a:xfrm>
            <a:off x="976320" y="5770080"/>
            <a:ext cx="1604880" cy="3474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fd94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00" spc="-1" strike="noStrike">
                <a:solidFill>
                  <a:srgbClr val="000000"/>
                </a:solidFill>
                <a:latin typeface="Bookman Old Style"/>
              </a:rPr>
              <a:t>Permohonan dapat diakses melalui laman MK (mkri.Id)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3"/>
          <p:cNvSpPr/>
          <p:nvPr/>
        </p:nvSpPr>
        <p:spPr>
          <a:xfrm>
            <a:off x="4094280" y="3871800"/>
            <a:ext cx="253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000000"/>
                </a:solidFill>
                <a:latin typeface="Cambria"/>
              </a:rPr>
              <a:t>Pencatatan Permohonan dalam e-BP3 </a:t>
            </a: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(15 – 18 Feb 2024,  20 – 23 Mrt 202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sebagai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F987-D47C-40F8-A6A5-21515D59B3DA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ounded Rectangle 20"/>
          <p:cNvSpPr/>
          <p:nvPr/>
        </p:nvSpPr>
        <p:spPr>
          <a:xfrm>
            <a:off x="2938320" y="3316320"/>
            <a:ext cx="1646280" cy="118260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000000"/>
                </a:solidFill>
                <a:latin typeface="Cambria"/>
                <a:ea typeface="Cambria"/>
              </a:rPr>
              <a:t>Pengajuan Permohon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6838920" y="3599640"/>
            <a:ext cx="18637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</a:t>
            </a: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ight Arrow 22"/>
          <p:cNvSpPr/>
          <p:nvPr/>
        </p:nvSpPr>
        <p:spPr>
          <a:xfrm>
            <a:off x="2536920" y="3648240"/>
            <a:ext cx="318960" cy="498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4"/>
          <p:cNvGrpSpPr/>
          <p:nvPr/>
        </p:nvGrpSpPr>
        <p:grpSpPr>
          <a:xfrm>
            <a:off x="587520" y="2962440"/>
            <a:ext cx="1890720" cy="1920600"/>
            <a:chOff x="587520" y="2962440"/>
            <a:chExt cx="1890720" cy="1920600"/>
          </a:xfrm>
        </p:grpSpPr>
        <p:sp>
          <p:nvSpPr>
            <p:cNvPr id="349" name="Oval 25"/>
            <p:cNvSpPr/>
            <p:nvPr/>
          </p:nvSpPr>
          <p:spPr>
            <a:xfrm>
              <a:off x="587520" y="2962440"/>
              <a:ext cx="1890720" cy="1920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6"/>
            <p:cNvSpPr/>
            <p:nvPr/>
          </p:nvSpPr>
          <p:spPr>
            <a:xfrm>
              <a:off x="587520" y="2962440"/>
              <a:ext cx="1890720" cy="192060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7"/>
            <p:cNvSpPr/>
            <p:nvPr/>
          </p:nvSpPr>
          <p:spPr>
            <a:xfrm>
              <a:off x="709920" y="3085560"/>
              <a:ext cx="1644120" cy="167904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709920" y="3085560"/>
              <a:ext cx="1644120" cy="1679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793440" y="3171600"/>
              <a:ext cx="1476000" cy="149940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Rectangle 13"/>
          <p:cNvSpPr/>
          <p:nvPr/>
        </p:nvSpPr>
        <p:spPr>
          <a:xfrm>
            <a:off x="677880" y="359136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ffff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25 Maret 2024</a:t>
            </a:r>
            <a:r>
              <a:rPr b="0" lang="en-ID" sz="16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2268360" y="4502160"/>
            <a:ext cx="3141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400" spc="-1" strike="noStrike">
                <a:solidFill>
                  <a:srgbClr val="000000"/>
                </a:solidFill>
                <a:latin typeface="Cambria"/>
              </a:rPr>
              <a:t>Paling lama 2 (dua) hari kerja sejak permohonan dicatat dalam e-BRP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(25 - 26 Maret 20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Straight Arrow Connector 32" descr=""/>
          <p:cNvPicPr/>
          <p:nvPr/>
        </p:nvPicPr>
        <p:blipFill>
          <a:blip r:embed="rId1"/>
          <a:stretch/>
        </p:blipFill>
        <p:spPr>
          <a:xfrm>
            <a:off x="4456080" y="3608280"/>
            <a:ext cx="2693880" cy="719280"/>
          </a:xfrm>
          <a:prstGeom prst="rect">
            <a:avLst/>
          </a:prstGeom>
          <a:ln w="0">
            <a:noFill/>
          </a:ln>
        </p:spPr>
      </p:pic>
      <p:sp>
        <p:nvSpPr>
          <p:cNvPr id="357" name="Curved Right Arrow 33"/>
          <p:cNvSpPr/>
          <p:nvPr/>
        </p:nvSpPr>
        <p:spPr>
          <a:xfrm rot="5583600">
            <a:off x="5139000" y="999000"/>
            <a:ext cx="743040" cy="3783240"/>
          </a:xfrm>
          <a:custGeom>
            <a:avLst/>
            <a:gdLst>
              <a:gd name="textAreaLeft" fmla="*/ 99360 w 743040"/>
              <a:gd name="textAreaRight" fmla="*/ 643680 w 743040"/>
              <a:gd name="textAreaTop" fmla="*/ 875880 h 3783240"/>
              <a:gd name="textAreaBottom" fmla="*/ 2814480 h 378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5" stAng="-5400000" swAng="-5400000"/>
                <a:lnTo>
                  <a:pt x="0" y="11066"/>
                </a:lnTo>
                <a:arcTo wR="21600" hR="10005" stAng="10800000" swAng="-3279834"/>
                <a:lnTo>
                  <a:pt x="14861" y="21101"/>
                </a:lnTo>
                <a:lnTo>
                  <a:pt x="21600" y="20540"/>
                </a:lnTo>
                <a:lnTo>
                  <a:pt x="14861" y="18980"/>
                </a:lnTo>
                <a:lnTo>
                  <a:pt x="14861" y="19510"/>
                </a:lnTo>
                <a:arcTo wR="21600" hR="10005" stAng="7520166" swAng="3195300"/>
                <a:lnTo>
                  <a:pt x="30" y="10535"/>
                </a:lnTo>
                <a:arcTo wR="21600" hR="10005" stAng="-10715466" swAng="5315466"/>
                <a:close/>
              </a:path>
              <a:path fill="darkenLess" w="21600" h="21600">
                <a:moveTo>
                  <a:pt x="21600" y="0"/>
                </a:moveTo>
                <a:arcTo wR="21600" hR="10005" stAng="-5400000" swAng="-5400000"/>
                <a:lnTo>
                  <a:pt x="0" y="10005"/>
                </a:lnTo>
                <a:arcTo wR="21600" hR="10005" stAng="10800000" swAng="-84534"/>
                <a:lnTo>
                  <a:pt x="30" y="10535"/>
                </a:lnTo>
                <a:arcTo wR="21600" hR="10005" stAng="-10715466" swAng="531546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5"/>
          <p:cNvSpPr/>
          <p:nvPr/>
        </p:nvSpPr>
        <p:spPr>
          <a:xfrm>
            <a:off x="4584600" y="2665440"/>
            <a:ext cx="19116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nyampaian Ketetapan Pihak Terk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mbria"/>
              </a:rPr>
              <a:t>25 - 26 Maret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4379760" y="3992400"/>
            <a:ext cx="257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Diterbitkan sebelum Sida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Cambria"/>
              </a:rPr>
              <a:t>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9722-475E-4DCE-9399-A90316DD9403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3"/>
          <p:cNvSpPr/>
          <p:nvPr/>
        </p:nvSpPr>
        <p:spPr>
          <a:xfrm>
            <a:off x="4406760" y="4456440"/>
            <a:ext cx="136080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44"/>
          <p:cNvSpPr/>
          <p:nvPr/>
        </p:nvSpPr>
        <p:spPr>
          <a:xfrm>
            <a:off x="504720" y="4335480"/>
            <a:ext cx="1076400" cy="10112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5"/>
          <p:cNvSpPr/>
          <p:nvPr/>
        </p:nvSpPr>
        <p:spPr>
          <a:xfrm>
            <a:off x="7020000" y="2424240"/>
            <a:ext cx="1152360" cy="10350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519120" y="461160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Straight Arrow Connector 43"/>
          <p:cNvCxnSpPr/>
          <p:nvPr/>
        </p:nvCxnSpPr>
        <p:spPr>
          <a:xfrm>
            <a:off x="1580760" y="4825800"/>
            <a:ext cx="2826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7" name="Rectangle 2"/>
          <p:cNvSpPr/>
          <p:nvPr/>
        </p:nvSpPr>
        <p:spPr>
          <a:xfrm>
            <a:off x="1563840" y="4459320"/>
            <a:ext cx="267804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nyampaian Salinan Permoho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1525680" y="4927680"/>
            <a:ext cx="2678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1 hari kerja se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jak </a:t>
            </a: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rmohonan dicatat dalam e-BR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(25 Mrt 2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Straight Arrow Connector 43"/>
          <p:cNvCxnSpPr/>
          <p:nvPr/>
        </p:nvCxnSpPr>
        <p:spPr>
          <a:xfrm flipV="1">
            <a:off x="1049040" y="2920320"/>
            <a:ext cx="1080" cy="140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0" name="Rectangle 48"/>
          <p:cNvSpPr/>
          <p:nvPr/>
        </p:nvSpPr>
        <p:spPr>
          <a:xfrm>
            <a:off x="1193760" y="2997360"/>
            <a:ext cx="30463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1 hari kerja sebelum 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(26 - 27 Mrt 2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7"/>
          <p:cNvSpPr/>
          <p:nvPr/>
        </p:nvSpPr>
        <p:spPr>
          <a:xfrm>
            <a:off x="7007400" y="2633760"/>
            <a:ext cx="118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IDANG</a:t>
            </a:r>
            <a:br>
              <a:rPr sz="1600"/>
            </a:b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RT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8"/>
          <p:cNvSpPr/>
          <p:nvPr/>
        </p:nvSpPr>
        <p:spPr>
          <a:xfrm>
            <a:off x="6691320" y="34844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8 Mrt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43"/>
          <p:cNvCxnSpPr/>
          <p:nvPr/>
        </p:nvCxnSpPr>
        <p:spPr>
          <a:xfrm>
            <a:off x="1034640" y="2930040"/>
            <a:ext cx="5963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4" name="Rectangle 45"/>
          <p:cNvSpPr/>
          <p:nvPr/>
        </p:nvSpPr>
        <p:spPr>
          <a:xfrm>
            <a:off x="6108840" y="1990800"/>
            <a:ext cx="304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Paling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lama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ID" sz="1100" spc="-1" strike="noStrike">
                <a:solidFill>
                  <a:srgbClr val="002060"/>
                </a:solidFill>
                <a:latin typeface="Cambria"/>
              </a:rPr>
              <a:t>4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 hari kerja setelah Permohonan Pemohon dicatat dalam e-BRPK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6"/>
          <p:cNvSpPr/>
          <p:nvPr/>
        </p:nvSpPr>
        <p:spPr>
          <a:xfrm>
            <a:off x="4406760" y="4876200"/>
            <a:ext cx="136080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7"/>
          <p:cNvSpPr/>
          <p:nvPr/>
        </p:nvSpPr>
        <p:spPr>
          <a:xfrm>
            <a:off x="4457880" y="299916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IHAK TERK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8"/>
          <p:cNvSpPr/>
          <p:nvPr/>
        </p:nvSpPr>
        <p:spPr>
          <a:xfrm>
            <a:off x="4457880" y="338004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9"/>
          <p:cNvSpPr/>
          <p:nvPr/>
        </p:nvSpPr>
        <p:spPr>
          <a:xfrm>
            <a:off x="4457880" y="219888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E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0"/>
          <p:cNvSpPr/>
          <p:nvPr/>
        </p:nvSpPr>
        <p:spPr>
          <a:xfrm>
            <a:off x="4457880" y="2580120"/>
            <a:ext cx="157464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1407960" y="242568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mberitah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Hari Sidang Pert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8"/>
          <p:cNvSpPr/>
          <p:nvPr/>
        </p:nvSpPr>
        <p:spPr>
          <a:xfrm>
            <a:off x="131760" y="5365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5 Mrt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F1C6-13AF-4E5B-AE73-C919C78BCE94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43"/>
          <p:cNvCxnSpPr/>
          <p:nvPr/>
        </p:nvCxnSpPr>
        <p:spPr>
          <a:xfrm flipV="1">
            <a:off x="1370160" y="3823920"/>
            <a:ext cx="4896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Rectangle 44"/>
          <p:cNvSpPr/>
          <p:nvPr/>
        </p:nvSpPr>
        <p:spPr>
          <a:xfrm>
            <a:off x="1871640" y="347508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66"/>
          <p:cNvSpPr/>
          <p:nvPr/>
        </p:nvSpPr>
        <p:spPr>
          <a:xfrm>
            <a:off x="217440" y="3241800"/>
            <a:ext cx="1152720" cy="12636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traight Connector 67"/>
          <p:cNvSpPr/>
          <p:nvPr/>
        </p:nvSpPr>
        <p:spPr>
          <a:xfrm>
            <a:off x="216000" y="3835440"/>
            <a:ext cx="1181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Elbow Connector 35"/>
          <p:cNvCxnSpPr/>
          <p:nvPr/>
        </p:nvCxnSpPr>
        <p:spPr>
          <a:xfrm>
            <a:off x="4919400" y="265860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grpSp>
        <p:nvGrpSpPr>
          <p:cNvPr id="389" name="Group 69"/>
          <p:cNvGrpSpPr/>
          <p:nvPr/>
        </p:nvGrpSpPr>
        <p:grpSpPr>
          <a:xfrm>
            <a:off x="793800" y="2149560"/>
            <a:ext cx="8335800" cy="2006640"/>
            <a:chOff x="793800" y="2149560"/>
            <a:chExt cx="8335800" cy="2006640"/>
          </a:xfrm>
        </p:grpSpPr>
        <p:grpSp>
          <p:nvGrpSpPr>
            <p:cNvPr id="390" name="Group 70"/>
            <p:cNvGrpSpPr/>
            <p:nvPr/>
          </p:nvGrpSpPr>
          <p:grpSpPr>
            <a:xfrm>
              <a:off x="793800" y="2149560"/>
              <a:ext cx="4136040" cy="1080360"/>
              <a:chOff x="793800" y="2149560"/>
              <a:chExt cx="4136040" cy="1080360"/>
            </a:xfrm>
          </p:grpSpPr>
          <p:sp>
            <p:nvSpPr>
              <p:cNvPr id="391" name="TextBox 79"/>
              <p:cNvSpPr/>
              <p:nvPr/>
            </p:nvSpPr>
            <p:spPr>
              <a:xfrm>
                <a:off x="3188160" y="2262240"/>
                <a:ext cx="1669680" cy="905400"/>
              </a:xfrm>
              <a:prstGeom prst="rect">
                <a:avLst/>
              </a:prstGeom>
              <a:solidFill>
                <a:srgbClr val="ffebe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Rectangle 80"/>
              <p:cNvGrpSpPr/>
              <p:nvPr/>
            </p:nvGrpSpPr>
            <p:grpSpPr>
              <a:xfrm>
                <a:off x="3121200" y="2230920"/>
                <a:ext cx="1808640" cy="567000"/>
                <a:chOff x="3121200" y="2230920"/>
                <a:chExt cx="1808640" cy="567000"/>
              </a:xfrm>
            </p:grpSpPr>
            <p:pic>
              <p:nvPicPr>
                <p:cNvPr id="393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1200" y="2230920"/>
                  <a:ext cx="1808640" cy="56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4" name=""/>
                <p:cNvSpPr/>
                <p:nvPr/>
              </p:nvSpPr>
              <p:spPr>
                <a:xfrm>
                  <a:off x="3187440" y="2274120"/>
                  <a:ext cx="1668960" cy="4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" name="Rectangle 48"/>
              <p:cNvSpPr/>
              <p:nvPr/>
            </p:nvSpPr>
            <p:spPr>
              <a:xfrm>
                <a:off x="831600" y="2149560"/>
                <a:ext cx="223524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 kerja </a:t>
                </a:r>
                <a:r>
                  <a:rPr b="0" lang="en-ID" sz="1000" spc="-1" strike="noStrike">
                    <a:solidFill>
                      <a:srgbClr val="000000"/>
                    </a:solidFill>
                    <a:latin typeface="Cambria"/>
                  </a:rPr>
                  <a:t>sebelum Pemeriksaan Pendahulu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6 - 27 Maret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Straight Connector 34"/>
              <p:cNvSpPr/>
              <p:nvPr/>
            </p:nvSpPr>
            <p:spPr>
              <a:xfrm flipH="1" flipV="1">
                <a:off x="3199320" y="2661480"/>
                <a:ext cx="169848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7" name="Elbow Connector 35"/>
              <p:cNvCxnSpPr/>
              <p:nvPr/>
            </p:nvCxnSpPr>
            <p:spPr>
              <a:xfrm flipH="1" flipV="1" rot="5400000">
                <a:off x="1714320" y="1756440"/>
                <a:ext cx="553320" cy="239472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arrow" w="med"/>
              </a:ln>
            </p:spPr>
          </p:cxnSp>
        </p:grpSp>
        <p:sp>
          <p:nvSpPr>
            <p:cNvPr id="398" name="Rectangle 48"/>
            <p:cNvSpPr/>
            <p:nvPr/>
          </p:nvSpPr>
          <p:spPr>
            <a:xfrm>
              <a:off x="3757680" y="3934080"/>
              <a:ext cx="167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1000" indent="79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72"/>
            <p:cNvGrpSpPr/>
            <p:nvPr/>
          </p:nvGrpSpPr>
          <p:grpSpPr>
            <a:xfrm>
              <a:off x="7755120" y="3008520"/>
              <a:ext cx="1374480" cy="1147680"/>
              <a:chOff x="7755120" y="3008520"/>
              <a:chExt cx="1374480" cy="1147680"/>
            </a:xfrm>
          </p:grpSpPr>
          <p:sp>
            <p:nvSpPr>
              <p:cNvPr id="400" name="Oval 73"/>
              <p:cNvSpPr/>
              <p:nvPr/>
            </p:nvSpPr>
            <p:spPr>
              <a:xfrm>
                <a:off x="7755120" y="3008520"/>
                <a:ext cx="1374480" cy="114768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Box 74"/>
              <p:cNvSpPr/>
              <p:nvPr/>
            </p:nvSpPr>
            <p:spPr>
              <a:xfrm>
                <a:off x="7850160" y="3062160"/>
                <a:ext cx="1189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SIDANG</a:t>
                </a:r>
                <a:br>
                  <a:rPr sz="1400"/>
                </a:b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PERTA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Box 75"/>
              <p:cNvSpPr/>
              <p:nvPr/>
            </p:nvSpPr>
            <p:spPr>
              <a:xfrm>
                <a:off x="7889760" y="3576960"/>
                <a:ext cx="1189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Straight Connector 34"/>
              <p:cNvSpPr/>
              <p:nvPr/>
            </p:nvSpPr>
            <p:spPr>
              <a:xfrm flipH="1" flipV="1">
                <a:off x="7768080" y="3579120"/>
                <a:ext cx="133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404" name="Elbow Connector 35"/>
          <p:cNvCxnSpPr>
            <a:stCxn id="386" idx="4"/>
          </p:cNvCxnSpPr>
          <p:nvPr/>
        </p:nvCxnSpPr>
        <p:spPr>
          <a:xfrm flipH="1" rot="16200000">
            <a:off x="4350600" y="948240"/>
            <a:ext cx="589680" cy="770328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405" name="Straight Arrow Connector 43"/>
          <p:cNvCxnSpPr/>
          <p:nvPr/>
        </p:nvCxnSpPr>
        <p:spPr>
          <a:xfrm flipV="1">
            <a:off x="3484440" y="3831840"/>
            <a:ext cx="36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6" name="Rectangle 44"/>
          <p:cNvSpPr/>
          <p:nvPr/>
        </p:nvSpPr>
        <p:spPr>
          <a:xfrm>
            <a:off x="1870200" y="3841920"/>
            <a:ext cx="1596960" cy="657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Paling lama 1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hari kerja se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</a:rPr>
              <a:t>jak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permohonan dicatat dalam e-B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Cambria"/>
              </a:rPr>
              <a:t>25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4"/>
          <p:cNvSpPr/>
          <p:nvPr/>
        </p:nvSpPr>
        <p:spPr>
          <a:xfrm>
            <a:off x="5867280" y="4481640"/>
            <a:ext cx="1328760" cy="5806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HARI SIDANG PERTAMA KEPADA PIHAK TERK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4"/>
          <p:cNvSpPr/>
          <p:nvPr/>
        </p:nvSpPr>
        <p:spPr>
          <a:xfrm>
            <a:off x="5867280" y="5106960"/>
            <a:ext cx="1328760" cy="77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Paling lama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</a:rPr>
              <a:t>hari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</a:rPr>
              <a:t> kerja </a:t>
            </a:r>
            <a:r>
              <a:rPr b="0" lang="en-ID" sz="900" spc="-1" strike="noStrike">
                <a:solidFill>
                  <a:srgbClr val="000000"/>
                </a:solidFill>
                <a:latin typeface="Cambria"/>
              </a:rPr>
              <a:t>sebelum Pemeriksaan Pendahul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</a:rPr>
              <a:t>26 - 27 Maret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Elbow Connector 91"/>
          <p:cNvCxnSpPr/>
          <p:nvPr/>
        </p:nvCxnSpPr>
        <p:spPr>
          <a:xfrm flipV="1" rot="16200000">
            <a:off x="7965360" y="4604400"/>
            <a:ext cx="97884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410" name="Rectangle 93"/>
          <p:cNvSpPr/>
          <p:nvPr/>
        </p:nvSpPr>
        <p:spPr>
          <a:xfrm>
            <a:off x="7845480" y="3664080"/>
            <a:ext cx="11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</a:rPr>
              <a:t>28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94"/>
          <p:cNvSpPr/>
          <p:nvPr/>
        </p:nvSpPr>
        <p:spPr>
          <a:xfrm>
            <a:off x="222120" y="394020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Cambria"/>
              </a:rPr>
              <a:t>25 Maret 20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95"/>
          <p:cNvSpPr/>
          <p:nvPr/>
        </p:nvSpPr>
        <p:spPr>
          <a:xfrm>
            <a:off x="252360" y="341964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22"/>
          <p:cNvSpPr/>
          <p:nvPr/>
        </p:nvSpPr>
        <p:spPr>
          <a:xfrm>
            <a:off x="2527200" y="323532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2"/>
          <p:cNvSpPr/>
          <p:nvPr/>
        </p:nvSpPr>
        <p:spPr>
          <a:xfrm>
            <a:off x="3854520" y="19861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Cambria"/>
                <a:ea typeface="Cambria"/>
              </a:rPr>
              <a:t>1</a:t>
            </a: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2"/>
          <p:cNvSpPr/>
          <p:nvPr/>
        </p:nvSpPr>
        <p:spPr>
          <a:xfrm>
            <a:off x="8472600" y="270036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5"/>
          <p:cNvSpPr/>
          <p:nvPr/>
        </p:nvSpPr>
        <p:spPr>
          <a:xfrm>
            <a:off x="5199120" y="2244600"/>
            <a:ext cx="30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7"/>
          <p:cNvSpPr/>
          <p:nvPr/>
        </p:nvSpPr>
        <p:spPr>
          <a:xfrm>
            <a:off x="2946240" y="4603680"/>
            <a:ext cx="1378080" cy="459000"/>
          </a:xfrm>
          <a:prstGeom prst="rect">
            <a:avLst/>
          </a:prstGeom>
          <a:solidFill>
            <a:srgbClr val="007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ffffff"/>
                </a:solidFill>
                <a:latin typeface="Cambria"/>
              </a:rPr>
              <a:t>PENGAJUAN PERMOHONAN </a:t>
            </a: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SEBAGAI </a:t>
            </a:r>
            <a:r>
              <a:rPr b="1" lang="id-ID" sz="800" spc="-1" strike="noStrike">
                <a:solidFill>
                  <a:srgbClr val="ffffff"/>
                </a:solidFill>
                <a:latin typeface="Cambria"/>
              </a:rPr>
              <a:t>PIHAK TERK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4"/>
          <p:cNvSpPr/>
          <p:nvPr/>
        </p:nvSpPr>
        <p:spPr>
          <a:xfrm>
            <a:off x="2959200" y="5105520"/>
            <a:ext cx="1377720" cy="61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00000"/>
                </a:solidFill>
                <a:latin typeface="Cambria"/>
                <a:ea typeface="Cambria"/>
              </a:rPr>
              <a:t>25 – 26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3854520" y="3543840"/>
            <a:ext cx="1063440" cy="246240"/>
          </a:xfrm>
          <a:prstGeom prst="rect">
            <a:avLst/>
          </a:prstGeom>
          <a:solidFill>
            <a:srgbClr val="ffc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6"/>
          <p:cNvSpPr/>
          <p:nvPr/>
        </p:nvSpPr>
        <p:spPr>
          <a:xfrm>
            <a:off x="3854520" y="3829680"/>
            <a:ext cx="1063440" cy="246240"/>
          </a:xfrm>
          <a:prstGeom prst="rect">
            <a:avLst/>
          </a:prstGeom>
          <a:solidFill>
            <a:srgbClr val="ffc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5"/>
          <p:cNvSpPr/>
          <p:nvPr/>
        </p:nvSpPr>
        <p:spPr>
          <a:xfrm>
            <a:off x="4206960" y="5197320"/>
            <a:ext cx="1741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5 – 26 Maret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2"/>
          <p:cNvSpPr/>
          <p:nvPr/>
        </p:nvSpPr>
        <p:spPr>
          <a:xfrm>
            <a:off x="3645000" y="430704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2"/>
          <p:cNvSpPr/>
          <p:nvPr/>
        </p:nvSpPr>
        <p:spPr>
          <a:xfrm>
            <a:off x="7283520" y="472608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7590-BD26-4B3F-96CA-5FA67BDF6A93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ounded Rectangle 26"/>
          <p:cNvSpPr/>
          <p:nvPr/>
        </p:nvSpPr>
        <p:spPr>
          <a:xfrm>
            <a:off x="3176640" y="260964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ounded Rectangle 8"/>
          <p:cNvSpPr/>
          <p:nvPr/>
        </p:nvSpPr>
        <p:spPr>
          <a:xfrm>
            <a:off x="3268800" y="439452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5986440" y="356076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3"/>
          <p:cNvSpPr/>
          <p:nvPr/>
        </p:nvSpPr>
        <p:spPr>
          <a:xfrm>
            <a:off x="5757840" y="422676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ight Arrow 35"/>
          <p:cNvSpPr/>
          <p:nvPr/>
        </p:nvSpPr>
        <p:spPr>
          <a:xfrm>
            <a:off x="5054760" y="3625920"/>
            <a:ext cx="750600" cy="4982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Curved Right Arrow 36"/>
          <p:cNvSpPr/>
          <p:nvPr/>
        </p:nvSpPr>
        <p:spPr>
          <a:xfrm rot="16200000">
            <a:off x="2474280" y="4323600"/>
            <a:ext cx="799920" cy="2442960"/>
          </a:xfrm>
          <a:custGeom>
            <a:avLst/>
            <a:gdLst>
              <a:gd name="textAreaLeft" fmla="*/ 106920 w 799920"/>
              <a:gd name="textAreaRight" fmla="*/ 693000 w 79992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urved Left Arrow 37"/>
          <p:cNvSpPr/>
          <p:nvPr/>
        </p:nvSpPr>
        <p:spPr>
          <a:xfrm rot="16200000">
            <a:off x="2411640" y="999720"/>
            <a:ext cx="812520" cy="2305080"/>
          </a:xfrm>
          <a:custGeom>
            <a:avLst/>
            <a:gdLst>
              <a:gd name="textAreaLeft" fmla="*/ 108720 w 812520"/>
              <a:gd name="textAreaRight" fmla="*/ 703800 w 81252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24"/>
          <p:cNvGrpSpPr/>
          <p:nvPr/>
        </p:nvGrpSpPr>
        <p:grpSpPr>
          <a:xfrm>
            <a:off x="512640" y="2633760"/>
            <a:ext cx="2617560" cy="2431440"/>
            <a:chOff x="512640" y="2633760"/>
            <a:chExt cx="2617560" cy="2431440"/>
          </a:xfrm>
        </p:grpSpPr>
        <p:sp>
          <p:nvSpPr>
            <p:cNvPr id="434" name="Oval 25"/>
            <p:cNvSpPr/>
            <p:nvPr/>
          </p:nvSpPr>
          <p:spPr>
            <a:xfrm>
              <a:off x="512640" y="263376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6"/>
            <p:cNvSpPr/>
            <p:nvPr/>
          </p:nvSpPr>
          <p:spPr>
            <a:xfrm>
              <a:off x="512640" y="263376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7"/>
            <p:cNvSpPr/>
            <p:nvPr/>
          </p:nvSpPr>
          <p:spPr>
            <a:xfrm>
              <a:off x="682200" y="279144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8"/>
            <p:cNvSpPr/>
            <p:nvPr/>
          </p:nvSpPr>
          <p:spPr>
            <a:xfrm>
              <a:off x="682200" y="279144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9"/>
            <p:cNvSpPr/>
            <p:nvPr/>
          </p:nvSpPr>
          <p:spPr>
            <a:xfrm>
              <a:off x="797760" y="2898720"/>
              <a:ext cx="2043720" cy="190008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"/>
          <p:cNvSpPr/>
          <p:nvPr/>
        </p:nvSpPr>
        <p:spPr>
          <a:xfrm>
            <a:off x="357120" y="333684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rc 45"/>
          <p:cNvSpPr/>
          <p:nvPr/>
        </p:nvSpPr>
        <p:spPr>
          <a:xfrm>
            <a:off x="4346640" y="2965320"/>
            <a:ext cx="527040" cy="183384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6002280" y="2819520"/>
            <a:ext cx="25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16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3084480" y="353268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5 Maret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491040"/>
            <a:ext cx="9361440" cy="521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DASAR HU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7C1A-CAD5-4BCB-A2EF-FB4C9BF131F0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395280" y="1457280"/>
            <a:ext cx="849780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24 TAHUN 2003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sebagaimana telah diubah terakhir dengan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20  tentang PERUBAHAN KETIGA atas UNDANG-UNDANG NOMOR 24 TAHUN 2003  tentang 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sebagaimana telah diubah dengan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ERATURAN PEMERINTAH PENGGANTI UNDANG-UNDANG NOMOR 1 TAHUN 2022 tentang PERUBAHAN ATAS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2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RAKYAT DAN DEWAN PERWAKILAN RAKYAT DAER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3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DAER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4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HPU PRESIDEN DAN WAKIL PRES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MK NOMOR 5 TAHUN 2023 TENTANG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ERSELISIHAN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H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ASIL 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  <a:ea typeface="Cambria"/>
              </a:rPr>
              <a:t>EMIL</a:t>
            </a:r>
            <a:r>
              <a:rPr b="1" lang="id-ID" sz="1600" spc="-1" strike="noStrike">
                <a:solidFill>
                  <a:srgbClr val="002060"/>
                </a:solidFill>
                <a:latin typeface="Cambria"/>
                <a:ea typeface="Cambria"/>
              </a:rPr>
              <a:t>IHAN UMUM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  <a:ea typeface="Cambria"/>
              </a:rPr>
              <a:t> ANGGOTA DPR, DPD, DPRD SETA PEMILIHAN UMUM PRESIDEN DAN WAKIL PRESI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67212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RSIDAN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59"/>
          <p:cNvSpPr/>
          <p:nvPr/>
        </p:nvSpPr>
        <p:spPr>
          <a:xfrm>
            <a:off x="6683400" y="647064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310E-DCDE-49BD-8E22-461D0FFB0EE8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Rounded Rectangle 6"/>
          <p:cNvGrpSpPr/>
          <p:nvPr/>
        </p:nvGrpSpPr>
        <p:grpSpPr>
          <a:xfrm>
            <a:off x="609480" y="1712880"/>
            <a:ext cx="1884600" cy="762120"/>
            <a:chOff x="609480" y="1712880"/>
            <a:chExt cx="1884600" cy="762120"/>
          </a:xfrm>
        </p:grpSpPr>
        <p:pic>
          <p:nvPicPr>
            <p:cNvPr id="446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609480" y="1712880"/>
              <a:ext cx="18846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704880" y="1779480"/>
              <a:ext cx="1693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Rounded Rectangle 8"/>
          <p:cNvSpPr/>
          <p:nvPr/>
        </p:nvSpPr>
        <p:spPr>
          <a:xfrm>
            <a:off x="847800" y="2712960"/>
            <a:ext cx="1407960" cy="1158840"/>
          </a:xfrm>
          <a:prstGeom prst="roundRect">
            <a:avLst>
              <a:gd name="adj" fmla="val 10023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ounded Rectangle 9"/>
          <p:cNvSpPr/>
          <p:nvPr/>
        </p:nvSpPr>
        <p:spPr>
          <a:xfrm>
            <a:off x="3235320" y="2712960"/>
            <a:ext cx="1168560" cy="2211480"/>
          </a:xfrm>
          <a:custGeom>
            <a:avLst/>
            <a:gdLst>
              <a:gd name="textAreaLeft" fmla="*/ 34200 w 1168560"/>
              <a:gd name="textAreaRight" fmla="*/ 1134360 w 1168560"/>
              <a:gd name="textAreaTop" fmla="*/ 34200 h 2211480"/>
              <a:gd name="textAreaBottom" fmla="*/ 2177280 h 2211480"/>
            </a:gdLst>
            <a:ahLst/>
            <a:rect l="textAreaLeft" t="textAreaTop" r="textAreaRight" b="textAreaBottom"/>
            <a:pathLst>
              <a:path w="21600" h="40872">
                <a:moveTo>
                  <a:pt x="2164" y="0"/>
                </a:moveTo>
                <a:arcTo wR="2164" hR="2164" stAng="16200000" swAng="-5400000"/>
                <a:lnTo>
                  <a:pt x="0" y="38708"/>
                </a:lnTo>
                <a:arcTo wR="2164" hR="2164" stAng="10800000" swAng="-5400000"/>
                <a:lnTo>
                  <a:pt x="19436" y="40872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ounded Rectangle 10"/>
          <p:cNvSpPr/>
          <p:nvPr/>
        </p:nvSpPr>
        <p:spPr>
          <a:xfrm>
            <a:off x="4487760" y="2733840"/>
            <a:ext cx="1301760" cy="98244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ounded Rectangle 12"/>
          <p:cNvSpPr/>
          <p:nvPr/>
        </p:nvSpPr>
        <p:spPr>
          <a:xfrm>
            <a:off x="6192720" y="2825640"/>
            <a:ext cx="93204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ight Arrow 14"/>
          <p:cNvSpPr/>
          <p:nvPr/>
        </p:nvSpPr>
        <p:spPr>
          <a:xfrm>
            <a:off x="2521080" y="1955880"/>
            <a:ext cx="934920" cy="27468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Rounded Rectangle 16"/>
          <p:cNvGrpSpPr/>
          <p:nvPr/>
        </p:nvGrpSpPr>
        <p:grpSpPr>
          <a:xfrm>
            <a:off x="3475080" y="1712880"/>
            <a:ext cx="1938240" cy="762120"/>
            <a:chOff x="3475080" y="1712880"/>
            <a:chExt cx="1938240" cy="762120"/>
          </a:xfrm>
        </p:grpSpPr>
        <p:pic>
          <p:nvPicPr>
            <p:cNvPr id="454" name="Rounded Rectangle 16" descr=""/>
            <p:cNvPicPr/>
            <p:nvPr/>
          </p:nvPicPr>
          <p:blipFill>
            <a:blip r:embed="rId2"/>
            <a:stretch/>
          </p:blipFill>
          <p:spPr>
            <a:xfrm>
              <a:off x="3475080" y="1712880"/>
              <a:ext cx="19382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3567240" y="1779480"/>
              <a:ext cx="17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Rounded Rectangle 18"/>
          <p:cNvGrpSpPr/>
          <p:nvPr/>
        </p:nvGrpSpPr>
        <p:grpSpPr>
          <a:xfrm>
            <a:off x="6291360" y="1816200"/>
            <a:ext cx="695160" cy="536400"/>
            <a:chOff x="6291360" y="1816200"/>
            <a:chExt cx="695160" cy="536400"/>
          </a:xfrm>
        </p:grpSpPr>
        <p:pic>
          <p:nvPicPr>
            <p:cNvPr id="457" name="Rounded Rectangle 18" descr=""/>
            <p:cNvPicPr/>
            <p:nvPr/>
          </p:nvPicPr>
          <p:blipFill>
            <a:blip r:embed="rId3"/>
            <a:stretch/>
          </p:blipFill>
          <p:spPr>
            <a:xfrm>
              <a:off x="6291360" y="1816200"/>
              <a:ext cx="6951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6375240" y="1871640"/>
              <a:ext cx="5288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Rounded Rectangle 19"/>
          <p:cNvGrpSpPr/>
          <p:nvPr/>
        </p:nvGrpSpPr>
        <p:grpSpPr>
          <a:xfrm>
            <a:off x="7527960" y="1749600"/>
            <a:ext cx="1049400" cy="682560"/>
            <a:chOff x="7527960" y="1749600"/>
            <a:chExt cx="1049400" cy="682560"/>
          </a:xfrm>
        </p:grpSpPr>
        <p:pic>
          <p:nvPicPr>
            <p:cNvPr id="460" name="Rounded Rectangle 19" descr=""/>
            <p:cNvPicPr/>
            <p:nvPr/>
          </p:nvPicPr>
          <p:blipFill>
            <a:blip r:embed="rId4"/>
            <a:stretch/>
          </p:blipFill>
          <p:spPr>
            <a:xfrm>
              <a:off x="7527960" y="1749600"/>
              <a:ext cx="1049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615080" y="1814400"/>
              <a:ext cx="87480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Straight Connector 25"/>
          <p:cNvSpPr/>
          <p:nvPr/>
        </p:nvSpPr>
        <p:spPr>
          <a:xfrm>
            <a:off x="1550880" y="2390760"/>
            <a:ext cx="180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26"/>
          <p:cNvSpPr/>
          <p:nvPr/>
        </p:nvSpPr>
        <p:spPr>
          <a:xfrm flipH="1">
            <a:off x="3819600" y="2390760"/>
            <a:ext cx="14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28"/>
          <p:cNvSpPr/>
          <p:nvPr/>
        </p:nvSpPr>
        <p:spPr>
          <a:xfrm>
            <a:off x="5138640" y="2390760"/>
            <a:ext cx="0" cy="343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9"/>
          <p:cNvSpPr/>
          <p:nvPr/>
        </p:nvSpPr>
        <p:spPr>
          <a:xfrm>
            <a:off x="6649920" y="2265480"/>
            <a:ext cx="7920" cy="560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ounded Rectangle 31"/>
          <p:cNvSpPr/>
          <p:nvPr/>
        </p:nvSpPr>
        <p:spPr>
          <a:xfrm>
            <a:off x="7597800" y="2838600"/>
            <a:ext cx="97776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32"/>
          <p:cNvSpPr/>
          <p:nvPr/>
        </p:nvSpPr>
        <p:spPr>
          <a:xfrm>
            <a:off x="8083440" y="2378160"/>
            <a:ext cx="324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ight Arrow 42"/>
          <p:cNvSpPr/>
          <p:nvPr/>
        </p:nvSpPr>
        <p:spPr>
          <a:xfrm>
            <a:off x="5452920" y="1920960"/>
            <a:ext cx="752760" cy="27612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ight Arrow 44"/>
          <p:cNvSpPr/>
          <p:nvPr/>
        </p:nvSpPr>
        <p:spPr>
          <a:xfrm>
            <a:off x="7015320" y="1924200"/>
            <a:ext cx="469800" cy="27288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993600" y="4051440"/>
            <a:ext cx="11034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28 Maret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4525920" y="3867120"/>
            <a:ext cx="12524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2 - 5 April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6013440" y="3813120"/>
            <a:ext cx="1301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8 – 15  April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7442280" y="3811680"/>
            <a:ext cx="12524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</a:rPr>
              <a:t>16 April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Rounded Rectangle 27"/>
          <p:cNvGrpSpPr/>
          <p:nvPr/>
        </p:nvGrpSpPr>
        <p:grpSpPr>
          <a:xfrm>
            <a:off x="1712880" y="4992840"/>
            <a:ext cx="2305080" cy="1388880"/>
            <a:chOff x="1712880" y="4992840"/>
            <a:chExt cx="2305080" cy="1388880"/>
          </a:xfrm>
        </p:grpSpPr>
        <p:pic>
          <p:nvPicPr>
            <p:cNvPr id="475" name="Rounded Rectangle 27" descr=""/>
            <p:cNvPicPr/>
            <p:nvPr/>
          </p:nvPicPr>
          <p:blipFill>
            <a:blip r:embed="rId5"/>
            <a:stretch/>
          </p:blipFill>
          <p:spPr>
            <a:xfrm>
              <a:off x="1712880" y="4992840"/>
              <a:ext cx="230508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849320" y="5127480"/>
              <a:ext cx="197640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gaju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Straight Connector 30"/>
          <p:cNvSpPr/>
          <p:nvPr/>
        </p:nvSpPr>
        <p:spPr>
          <a:xfrm>
            <a:off x="2806560" y="2206800"/>
            <a:ext cx="32040" cy="2887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2162160" y="6249960"/>
            <a:ext cx="1309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1 April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1165320" y="2906640"/>
            <a:ext cx="70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SEKI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TERIMA KASI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8819-83A0-456A-BF7B-5E47A823E773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1"/>
          <a:stretch/>
        </p:blipFill>
        <p:spPr>
          <a:xfrm>
            <a:off x="4154400" y="439560"/>
            <a:ext cx="1243080" cy="11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2" name="TextBox 6"/>
          <p:cNvSpPr/>
          <p:nvPr/>
        </p:nvSpPr>
        <p:spPr>
          <a:xfrm>
            <a:off x="2927520" y="1609560"/>
            <a:ext cx="36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3009960"/>
            <a:ext cx="9361440" cy="947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PERSELISIHAN HASIL PEMILIHAN U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ANGGOTA DPR, DPD, DAN DPRD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BBCA-FA95-4B5A-9447-7FFB0D7CC984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47736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PR DAN DPRD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34CA-A03F-4648-BEBB-64453BA1DB28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99880" y="1492200"/>
            <a:ext cx="879336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"/>
              </a:rPr>
              <a:t>Pengajuan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2"/>
              </a:rPr>
              <a:t>Melengkapi dan Memperbaiki</a:t>
            </a: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3"/>
              </a:rPr>
              <a:t>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erbitan Hasil 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4"/>
              </a:rPr>
              <a:t>Pencatatan Permohonan Pemohon dalam 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5"/>
              </a:rPr>
              <a:t>Penyampaian Salinan Permohonan Pemohon kepada </a:t>
            </a: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6"/>
              </a:rPr>
              <a:t>Termohon dan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ajuan Permohonan sebagai P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Pemberi Ketera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ampaian Ketetap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ndahul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  <a:ea typeface="Arial"/>
              </a:rPr>
              <a:t>Penyerahan Jawaban Termohon, Keterangan Pihak Terkait, dan Ket.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Arial"/>
              </a:rPr>
              <a:t>-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 (Lanju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erahan salinan Putusa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-Point Star 1"/>
          <p:cNvSpPr/>
          <p:nvPr/>
        </p:nvSpPr>
        <p:spPr>
          <a:xfrm>
            <a:off x="8585280" y="804960"/>
            <a:ext cx="507960" cy="341280"/>
          </a:xfrm>
          <a:custGeom>
            <a:avLst/>
            <a:gdLst/>
            <a:ahLst/>
            <a:rect l="l" t="t" r="r" b="b"/>
            <a:pathLst>
              <a:path w="508000" h="341312">
                <a:moveTo>
                  <a:pt x="1" y="130369"/>
                </a:moveTo>
                <a:lnTo>
                  <a:pt x="194040" y="130370"/>
                </a:lnTo>
                <a:lnTo>
                  <a:pt x="254000" y="0"/>
                </a:lnTo>
                <a:lnTo>
                  <a:pt x="313960" y="130370"/>
                </a:lnTo>
                <a:lnTo>
                  <a:pt x="507999" y="130369"/>
                </a:lnTo>
                <a:lnTo>
                  <a:pt x="351018" y="210942"/>
                </a:lnTo>
                <a:lnTo>
                  <a:pt x="410980" y="341311"/>
                </a:lnTo>
                <a:lnTo>
                  <a:pt x="254000" y="260737"/>
                </a:lnTo>
                <a:lnTo>
                  <a:pt x="97020" y="341311"/>
                </a:lnTo>
                <a:lnTo>
                  <a:pt x="156982" y="210942"/>
                </a:lnTo>
                <a:lnTo>
                  <a:pt x="1" y="13036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E5A1-3A10-4B77-A951-98FA2D9A16A3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0" descr=""/>
          <p:cNvPicPr/>
          <p:nvPr/>
        </p:nvPicPr>
        <p:blipFill>
          <a:blip r:embed="rId1"/>
          <a:stretch/>
        </p:blipFill>
        <p:spPr>
          <a:xfrm>
            <a:off x="3666960" y="168912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59" name="Speech Bubble: Oval 10"/>
          <p:cNvSpPr/>
          <p:nvPr/>
        </p:nvSpPr>
        <p:spPr>
          <a:xfrm>
            <a:off x="5722920" y="1419120"/>
            <a:ext cx="2494080" cy="11368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2"/>
          <p:cNvSpPr/>
          <p:nvPr/>
        </p:nvSpPr>
        <p:spPr>
          <a:xfrm>
            <a:off x="5680080" y="1609560"/>
            <a:ext cx="266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emilu Serentak Tahun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3"/>
          <p:cNvSpPr/>
          <p:nvPr/>
        </p:nvSpPr>
        <p:spPr>
          <a:xfrm>
            <a:off x="4403880" y="33973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6"/>
          <p:cNvSpPr/>
          <p:nvPr/>
        </p:nvSpPr>
        <p:spPr>
          <a:xfrm>
            <a:off x="488880" y="40053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62"/>
          <p:cNvSpPr/>
          <p:nvPr/>
        </p:nvSpPr>
        <p:spPr>
          <a:xfrm>
            <a:off x="669960" y="452268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15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 83"/>
          <p:cNvSpPr/>
          <p:nvPr/>
        </p:nvSpPr>
        <p:spPr>
          <a:xfrm>
            <a:off x="2798640" y="4519440"/>
            <a:ext cx="1644840" cy="3589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entagon 91"/>
          <p:cNvSpPr/>
          <p:nvPr/>
        </p:nvSpPr>
        <p:spPr>
          <a:xfrm>
            <a:off x="4836960" y="45133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3"/>
          <p:cNvSpPr/>
          <p:nvPr/>
        </p:nvSpPr>
        <p:spPr>
          <a:xfrm>
            <a:off x="2281320" y="45752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3"/>
          <p:cNvSpPr/>
          <p:nvPr/>
        </p:nvSpPr>
        <p:spPr>
          <a:xfrm>
            <a:off x="4361040" y="45626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3"/>
          <p:cNvSpPr/>
          <p:nvPr/>
        </p:nvSpPr>
        <p:spPr>
          <a:xfrm>
            <a:off x="6532560" y="45608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3"/>
          <p:cNvSpPr/>
          <p:nvPr/>
        </p:nvSpPr>
        <p:spPr>
          <a:xfrm>
            <a:off x="528480" y="2143080"/>
            <a:ext cx="26942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x 24 jam sejak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diumum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46"/>
          <p:cNvSpPr/>
          <p:nvPr/>
        </p:nvSpPr>
        <p:spPr>
          <a:xfrm>
            <a:off x="515880" y="53355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entagon 105"/>
          <p:cNvSpPr/>
          <p:nvPr/>
        </p:nvSpPr>
        <p:spPr>
          <a:xfrm>
            <a:off x="696960" y="585324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Rabu 20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entagon 106"/>
          <p:cNvSpPr/>
          <p:nvPr/>
        </p:nvSpPr>
        <p:spPr>
          <a:xfrm>
            <a:off x="2825640" y="5850000"/>
            <a:ext cx="1644840" cy="3585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entagon 107"/>
          <p:cNvSpPr/>
          <p:nvPr/>
        </p:nvSpPr>
        <p:spPr>
          <a:xfrm>
            <a:off x="4863960" y="58435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3"/>
          <p:cNvSpPr/>
          <p:nvPr/>
        </p:nvSpPr>
        <p:spPr>
          <a:xfrm>
            <a:off x="2308320" y="59054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3"/>
          <p:cNvSpPr/>
          <p:nvPr/>
        </p:nvSpPr>
        <p:spPr>
          <a:xfrm>
            <a:off x="4387680" y="5892840"/>
            <a:ext cx="55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3"/>
          <p:cNvSpPr/>
          <p:nvPr/>
        </p:nvSpPr>
        <p:spPr>
          <a:xfrm>
            <a:off x="6559560" y="58910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7026120" y="4427640"/>
            <a:ext cx="167832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Minggu 18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7064280" y="5748480"/>
            <a:ext cx="1640160" cy="50004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ffffff"/>
                </a:solidFill>
                <a:latin typeface="Cambria"/>
              </a:rPr>
              <a:t>Sabtu 23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035D-D935-4C49-AA4A-1CF89CA3276D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53"/>
          <p:cNvGrpSpPr/>
          <p:nvPr/>
        </p:nvGrpSpPr>
        <p:grpSpPr>
          <a:xfrm>
            <a:off x="563400" y="2075400"/>
            <a:ext cx="8099640" cy="3675960"/>
            <a:chOff x="563400" y="2075400"/>
            <a:chExt cx="8099640" cy="3675960"/>
          </a:xfrm>
        </p:grpSpPr>
        <p:sp>
          <p:nvSpPr>
            <p:cNvPr id="82" name="Rectangle 54"/>
            <p:cNvSpPr/>
            <p:nvPr/>
          </p:nvSpPr>
          <p:spPr>
            <a:xfrm>
              <a:off x="2666880" y="2574720"/>
              <a:ext cx="1071360" cy="4730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gaju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55"/>
            <p:cNvSpPr/>
            <p:nvPr/>
          </p:nvSpPr>
          <p:spPr>
            <a:xfrm>
              <a:off x="5565960" y="4838760"/>
              <a:ext cx="582480" cy="24624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2"/>
            <p:cNvSpPr/>
            <p:nvPr/>
          </p:nvSpPr>
          <p:spPr>
            <a:xfrm>
              <a:off x="4086360" y="2617560"/>
              <a:ext cx="2044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64"/>
            <p:cNvSpPr/>
            <p:nvPr/>
          </p:nvSpPr>
          <p:spPr>
            <a:xfrm>
              <a:off x="6157080" y="2257200"/>
              <a:ext cx="1760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8"/>
            <p:cNvSpPr/>
            <p:nvPr/>
          </p:nvSpPr>
          <p:spPr>
            <a:xfrm>
              <a:off x="923760" y="2535120"/>
              <a:ext cx="968400" cy="10382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gumu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et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roleh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suara h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milu sec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n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asional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oleh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K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9"/>
            <p:cNvSpPr/>
            <p:nvPr/>
          </p:nvSpPr>
          <p:spPr>
            <a:xfrm>
              <a:off x="901800" y="3600360"/>
              <a:ext cx="1027080" cy="38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Feb 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– 2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0</a:t>
              </a: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Mrt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202</a:t>
              </a: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21"/>
            <p:cNvGrpSpPr/>
            <p:nvPr/>
          </p:nvGrpSpPr>
          <p:grpSpPr>
            <a:xfrm>
              <a:off x="7490880" y="4437720"/>
              <a:ext cx="1061640" cy="669240"/>
              <a:chOff x="7490880" y="4437720"/>
              <a:chExt cx="1061640" cy="669240"/>
            </a:xfrm>
          </p:grpSpPr>
          <p:sp>
            <p:nvSpPr>
              <p:cNvPr id="89" name="Rounded Rectangle 94"/>
              <p:cNvSpPr/>
              <p:nvPr/>
            </p:nvSpPr>
            <p:spPr>
              <a:xfrm>
                <a:off x="7490880" y="4437720"/>
                <a:ext cx="1045800" cy="3132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9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RPK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ounded Rectangle 101"/>
              <p:cNvSpPr/>
              <p:nvPr/>
            </p:nvSpPr>
            <p:spPr>
              <a:xfrm>
                <a:off x="7492320" y="4784400"/>
                <a:ext cx="1060200" cy="322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2 April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1" name="Straight Arrow Connector 61"/>
            <p:cNvCxnSpPr/>
            <p:nvPr/>
          </p:nvCxnSpPr>
          <p:spPr>
            <a:xfrm flipV="1">
              <a:off x="3743280" y="2876040"/>
              <a:ext cx="99288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92" name="Group 1"/>
            <p:cNvGrpSpPr/>
            <p:nvPr/>
          </p:nvGrpSpPr>
          <p:grpSpPr>
            <a:xfrm>
              <a:off x="1806480" y="2645640"/>
              <a:ext cx="869040" cy="866520"/>
              <a:chOff x="1806480" y="2645640"/>
              <a:chExt cx="869040" cy="866520"/>
            </a:xfrm>
          </p:grpSpPr>
          <p:grpSp>
            <p:nvGrpSpPr>
              <p:cNvPr id="93" name="Group 146"/>
              <p:cNvGrpSpPr/>
              <p:nvPr/>
            </p:nvGrpSpPr>
            <p:grpSpPr>
              <a:xfrm>
                <a:off x="1806480" y="2645640"/>
                <a:ext cx="869040" cy="866520"/>
                <a:chOff x="1806480" y="2645640"/>
                <a:chExt cx="869040" cy="866520"/>
              </a:xfrm>
            </p:grpSpPr>
            <p:sp>
              <p:nvSpPr>
                <p:cNvPr id="94" name="TextBox 23"/>
                <p:cNvSpPr/>
                <p:nvPr/>
              </p:nvSpPr>
              <p:spPr>
                <a:xfrm>
                  <a:off x="1806480" y="2931480"/>
                  <a:ext cx="8690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3</a:t>
                  </a:r>
                  <a:r>
                    <a:rPr b="1" lang="en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x 24 jam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sejak diumumkan KP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TextBox 23"/>
                <p:cNvSpPr/>
                <p:nvPr/>
              </p:nvSpPr>
              <p:spPr>
                <a:xfrm>
                  <a:off x="2100960" y="2645640"/>
                  <a:ext cx="238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6" name="Straight Arrow Connector 92"/>
              <p:cNvCxnSpPr/>
              <p:nvPr/>
            </p:nvCxnSpPr>
            <p:spPr>
              <a:xfrm>
                <a:off x="1890360" y="2904480"/>
                <a:ext cx="7628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97" name="TextBox 22"/>
            <p:cNvSpPr/>
            <p:nvPr/>
          </p:nvSpPr>
          <p:spPr>
            <a:xfrm flipH="1">
              <a:off x="8122680" y="4173480"/>
              <a:ext cx="260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2"/>
            <p:cNvSpPr/>
            <p:nvPr/>
          </p:nvSpPr>
          <p:spPr>
            <a:xfrm>
              <a:off x="5119920" y="2263680"/>
              <a:ext cx="314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2"/>
            <p:cNvSpPr/>
            <p:nvPr/>
          </p:nvSpPr>
          <p:spPr>
            <a:xfrm>
              <a:off x="7313760" y="3911400"/>
              <a:ext cx="203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c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6"/>
            <p:cNvSpPr/>
            <p:nvPr/>
          </p:nvSpPr>
          <p:spPr>
            <a:xfrm>
              <a:off x="2654280" y="3071520"/>
              <a:ext cx="1112760" cy="37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-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0 - 23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le 124"/>
            <p:cNvSpPr/>
            <p:nvPr/>
          </p:nvSpPr>
          <p:spPr>
            <a:xfrm>
              <a:off x="5423040" y="5095800"/>
              <a:ext cx="893520" cy="31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(pen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erbitan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unded Rectangle 131"/>
            <p:cNvSpPr/>
            <p:nvPr/>
          </p:nvSpPr>
          <p:spPr>
            <a:xfrm>
              <a:off x="7347240" y="3836880"/>
              <a:ext cx="1306440" cy="363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siapan Registra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7 - 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Straight Arrow Connector 69"/>
            <p:cNvCxnSpPr/>
            <p:nvPr/>
          </p:nvCxnSpPr>
          <p:spPr>
            <a:xfrm>
              <a:off x="7990200" y="4176360"/>
              <a:ext cx="8640" cy="28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" name="Rectangle 70"/>
            <p:cNvSpPr/>
            <p:nvPr/>
          </p:nvSpPr>
          <p:spPr>
            <a:xfrm>
              <a:off x="2968560" y="4342320"/>
              <a:ext cx="41256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P</a:t>
              </a: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Straight Arrow Connector 71"/>
            <p:cNvCxnSpPr/>
            <p:nvPr/>
          </p:nvCxnSpPr>
          <p:spPr>
            <a:xfrm>
              <a:off x="3174840" y="3488760"/>
              <a:ext cx="2160" cy="286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6" name="Oval 72"/>
            <p:cNvSpPr/>
            <p:nvPr/>
          </p:nvSpPr>
          <p:spPr>
            <a:xfrm>
              <a:off x="1117440" y="5102280"/>
              <a:ext cx="1604880" cy="64908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fd94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mohonan dapat diakses melalui laman MK (mkri.I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3"/>
            <p:cNvSpPr/>
            <p:nvPr/>
          </p:nvSpPr>
          <p:spPr>
            <a:xfrm>
              <a:off x="2921040" y="3827880"/>
              <a:ext cx="51408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e-B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Straight Arrow Connector 74"/>
            <p:cNvCxnSpPr/>
            <p:nvPr/>
          </p:nvCxnSpPr>
          <p:spPr>
            <a:xfrm>
              <a:off x="3184200" y="4087440"/>
              <a:ext cx="1080" cy="224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9" name="TextBox 22"/>
            <p:cNvSpPr/>
            <p:nvPr/>
          </p:nvSpPr>
          <p:spPr>
            <a:xfrm>
              <a:off x="6704280" y="4701960"/>
              <a:ext cx="147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6"/>
            <p:cNvSpPr/>
            <p:nvPr/>
          </p:nvSpPr>
          <p:spPr>
            <a:xfrm>
              <a:off x="2320920" y="2075400"/>
              <a:ext cx="1089000" cy="246240"/>
            </a:xfrm>
            <a:prstGeom prst="rect">
              <a:avLst/>
            </a:prstGeom>
            <a:solidFill>
              <a:srgbClr val="00b0f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1" name="Elbow Connector 69"/>
            <p:cNvCxnSpPr>
              <a:stCxn id="83" idx="1"/>
              <a:endCxn id="110" idx="1"/>
            </p:cNvCxnSpPr>
            <p:nvPr/>
          </p:nvCxnSpPr>
          <p:spPr>
            <a:xfrm rot="10800000">
              <a:off x="2320200" y="2197800"/>
              <a:ext cx="3245400" cy="2763000"/>
            </a:xfrm>
            <a:prstGeom prst="bentConnector3">
              <a:avLst>
                <a:gd name="adj1" fmla="val 154138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2" name="Straight Arrow Connector 78"/>
            <p:cNvCxnSpPr/>
            <p:nvPr/>
          </p:nvCxnSpPr>
          <p:spPr>
            <a:xfrm flipH="1">
              <a:off x="7989480" y="3578040"/>
              <a:ext cx="540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3" name="Straight Arrow Connector 79"/>
            <p:cNvCxnSpPr>
              <a:stCxn id="90" idx="1"/>
            </p:cNvCxnSpPr>
            <p:nvPr/>
          </p:nvCxnSpPr>
          <p:spPr>
            <a:xfrm flipH="1">
              <a:off x="6143400" y="4946400"/>
              <a:ext cx="13485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4" name="Rectangle 264"/>
            <p:cNvSpPr/>
            <p:nvPr/>
          </p:nvSpPr>
          <p:spPr>
            <a:xfrm>
              <a:off x="7909200" y="2133360"/>
              <a:ext cx="17136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64"/>
            <p:cNvSpPr/>
            <p:nvPr/>
          </p:nvSpPr>
          <p:spPr>
            <a:xfrm>
              <a:off x="8144640" y="3489120"/>
              <a:ext cx="174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Elbow Connector 60"/>
            <p:cNvCxnSpPr>
              <a:stCxn id="104" idx="2"/>
              <a:endCxn id="110" idx="1"/>
            </p:cNvCxnSpPr>
            <p:nvPr/>
          </p:nvCxnSpPr>
          <p:spPr>
            <a:xfrm flipV="1" rot="16200000">
              <a:off x="1566360" y="2952000"/>
              <a:ext cx="2363040" cy="854640"/>
            </a:xfrm>
            <a:prstGeom prst="bentConnector4">
              <a:avLst>
                <a:gd name="adj1" fmla="val -7313"/>
                <a:gd name="adj2" fmla="val 276106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117" name="Group 3"/>
            <p:cNvGrpSpPr/>
            <p:nvPr/>
          </p:nvGrpSpPr>
          <p:grpSpPr>
            <a:xfrm>
              <a:off x="4718160" y="2523960"/>
              <a:ext cx="2130480" cy="954000"/>
              <a:chOff x="4718160" y="2523960"/>
              <a:chExt cx="2130480" cy="954000"/>
            </a:xfrm>
          </p:grpSpPr>
          <p:sp>
            <p:nvSpPr>
              <p:cNvPr id="118" name="Rectangle 88"/>
              <p:cNvSpPr/>
              <p:nvPr/>
            </p:nvSpPr>
            <p:spPr>
              <a:xfrm>
                <a:off x="4718160" y="3147840"/>
                <a:ext cx="2129040" cy="330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Feb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3 Mrt – 26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9"/>
              <p:cNvSpPr/>
              <p:nvPr/>
            </p:nvSpPr>
            <p:spPr>
              <a:xfrm>
                <a:off x="5792760" y="2556360"/>
                <a:ext cx="1055880" cy="5396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eriksa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Kelengkap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Perbaik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r>
                  <a:rPr b="1" lang="id-ID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0"/>
              <p:cNvSpPr/>
              <p:nvPr/>
            </p:nvSpPr>
            <p:spPr>
              <a:xfrm>
                <a:off x="4718160" y="2523960"/>
                <a:ext cx="1055880" cy="60156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 Melengkapi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Memperbaiki</a:t>
                </a:r>
                <a:br>
                  <a:rPr sz="800"/>
                </a:b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84"/>
            <p:cNvSpPr/>
            <p:nvPr/>
          </p:nvSpPr>
          <p:spPr>
            <a:xfrm>
              <a:off x="7334280" y="2473200"/>
              <a:ext cx="1328760" cy="66132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 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erbit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Hasil Pemeriksaan Kelengkap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d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baik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Straight Arrow Connector 85"/>
            <p:cNvCxnSpPr/>
            <p:nvPr/>
          </p:nvCxnSpPr>
          <p:spPr>
            <a:xfrm flipV="1">
              <a:off x="6836040" y="2836440"/>
              <a:ext cx="52920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3" name="Rectangle 86"/>
            <p:cNvSpPr/>
            <p:nvPr/>
          </p:nvSpPr>
          <p:spPr>
            <a:xfrm>
              <a:off x="7334280" y="3200040"/>
              <a:ext cx="1328760" cy="33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Feb  - 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6 Mrt – 27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23"/>
            <p:cNvSpPr/>
            <p:nvPr/>
          </p:nvSpPr>
          <p:spPr>
            <a:xfrm>
              <a:off x="3764160" y="2889000"/>
              <a:ext cx="895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3</a:t>
              </a:r>
              <a:r>
                <a:rPr b="1" lang="en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x 24 jam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sejak diterima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ff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/ dikirim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n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 AP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23"/>
          <p:cNvSpPr/>
          <p:nvPr/>
        </p:nvSpPr>
        <p:spPr>
          <a:xfrm>
            <a:off x="3986280" y="4583160"/>
            <a:ext cx="123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A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2 –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777960" y="429912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erbitan dan Penyampaian A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2"/>
          <p:cNvSpPr/>
          <p:nvPr/>
        </p:nvSpPr>
        <p:spPr>
          <a:xfrm>
            <a:off x="5119560" y="4651200"/>
            <a:ext cx="14760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3394080" y="377028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catatan Permohonan dalam e-B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696600"/>
            <a:ext cx="9361440" cy="46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619B-6005-4D99-A613-325C6122A4EF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15"/>
          <p:cNvSpPr/>
          <p:nvPr/>
        </p:nvSpPr>
        <p:spPr>
          <a:xfrm>
            <a:off x="3052800" y="264744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8"/>
          <p:cNvSpPr/>
          <p:nvPr/>
        </p:nvSpPr>
        <p:spPr>
          <a:xfrm>
            <a:off x="3144960" y="443268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862600" y="359892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5634000" y="426492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Arrow 20"/>
          <p:cNvSpPr/>
          <p:nvPr/>
        </p:nvSpPr>
        <p:spPr>
          <a:xfrm>
            <a:off x="4930920" y="3664080"/>
            <a:ext cx="750600" cy="4982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rved Right Arrow 21"/>
          <p:cNvSpPr/>
          <p:nvPr/>
        </p:nvSpPr>
        <p:spPr>
          <a:xfrm rot="16200000">
            <a:off x="2350440" y="4361760"/>
            <a:ext cx="799920" cy="2442960"/>
          </a:xfrm>
          <a:custGeom>
            <a:avLst/>
            <a:gdLst>
              <a:gd name="textAreaLeft" fmla="*/ 106920 w 799920"/>
              <a:gd name="textAreaRight" fmla="*/ 693000 w 79992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rved Left Arrow 22"/>
          <p:cNvSpPr/>
          <p:nvPr/>
        </p:nvSpPr>
        <p:spPr>
          <a:xfrm rot="16200000">
            <a:off x="2287800" y="1037880"/>
            <a:ext cx="812520" cy="2305080"/>
          </a:xfrm>
          <a:custGeom>
            <a:avLst/>
            <a:gdLst>
              <a:gd name="textAreaLeft" fmla="*/ 108720 w 812520"/>
              <a:gd name="textAreaRight" fmla="*/ 703800 w 81252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4"/>
          <p:cNvGrpSpPr/>
          <p:nvPr/>
        </p:nvGrpSpPr>
        <p:grpSpPr>
          <a:xfrm>
            <a:off x="388800" y="2671920"/>
            <a:ext cx="2617560" cy="2431440"/>
            <a:chOff x="388800" y="2671920"/>
            <a:chExt cx="2617560" cy="2431440"/>
          </a:xfrm>
        </p:grpSpPr>
        <p:sp>
          <p:nvSpPr>
            <p:cNvPr id="139" name="Oval 25"/>
            <p:cNvSpPr/>
            <p:nvPr/>
          </p:nvSpPr>
          <p:spPr>
            <a:xfrm>
              <a:off x="388800" y="267192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88800" y="2671920"/>
              <a:ext cx="2617560" cy="243144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558360" y="282960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558360" y="2829600"/>
              <a:ext cx="2276280" cy="2127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673920" y="2936880"/>
              <a:ext cx="2043720" cy="190008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Rectangle 1"/>
          <p:cNvSpPr/>
          <p:nvPr/>
        </p:nvSpPr>
        <p:spPr>
          <a:xfrm>
            <a:off x="233280" y="337500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 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1"/>
          <p:cNvSpPr/>
          <p:nvPr/>
        </p:nvSpPr>
        <p:spPr>
          <a:xfrm>
            <a:off x="4222800" y="3003480"/>
            <a:ext cx="527040" cy="183348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65920" y="2710440"/>
            <a:ext cx="251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0 – 22 Me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 atau                         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4 – 5 Jun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2922480" y="357084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5E4B-990F-437D-84E9-C5378529DD78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3"/>
          <p:cNvSpPr/>
          <p:nvPr/>
        </p:nvSpPr>
        <p:spPr>
          <a:xfrm>
            <a:off x="4508640" y="4456440"/>
            <a:ext cx="136044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4"/>
          <p:cNvSpPr/>
          <p:nvPr/>
        </p:nvSpPr>
        <p:spPr>
          <a:xfrm>
            <a:off x="542880" y="4335480"/>
            <a:ext cx="1076400" cy="10112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5"/>
          <p:cNvSpPr/>
          <p:nvPr/>
        </p:nvSpPr>
        <p:spPr>
          <a:xfrm>
            <a:off x="7058160" y="2424240"/>
            <a:ext cx="1152360" cy="10350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6"/>
          <p:cNvSpPr/>
          <p:nvPr/>
        </p:nvSpPr>
        <p:spPr>
          <a:xfrm>
            <a:off x="557280" y="461160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Arrow Connector 43"/>
          <p:cNvCxnSpPr/>
          <p:nvPr/>
        </p:nvCxnSpPr>
        <p:spPr>
          <a:xfrm>
            <a:off x="1619280" y="4825800"/>
            <a:ext cx="2851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Rectangle 2"/>
          <p:cNvSpPr/>
          <p:nvPr/>
        </p:nvSpPr>
        <p:spPr>
          <a:xfrm>
            <a:off x="1601640" y="4459320"/>
            <a:ext cx="267840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nyampaian Salinan Permoho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563840" y="4927680"/>
            <a:ext cx="2678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1 hari kerja se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jak </a:t>
            </a: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rmohonan dicatat dalam e-BR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(22 - 23 Apr 20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43"/>
          <p:cNvCxnSpPr/>
          <p:nvPr/>
        </p:nvCxnSpPr>
        <p:spPr>
          <a:xfrm flipV="1">
            <a:off x="1087200" y="2920320"/>
            <a:ext cx="1080" cy="1408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Rectangle 48"/>
          <p:cNvSpPr/>
          <p:nvPr/>
        </p:nvSpPr>
        <p:spPr>
          <a:xfrm>
            <a:off x="1130400" y="2997360"/>
            <a:ext cx="33004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1 hari kerja setelah BRPK atau 3</a:t>
            </a: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 hari kerja </a:t>
            </a:r>
            <a:r>
              <a:rPr b="0" lang="en-ID" sz="1200" spc="-1" strike="noStrike">
                <a:solidFill>
                  <a:srgbClr val="002060"/>
                </a:solidFill>
                <a:latin typeface="Cambria"/>
              </a:rPr>
              <a:t>sebelum Pemeriksaan Pendahul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mbria"/>
              </a:rPr>
              <a:t>(23 - 25 Apr 20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7"/>
          <p:cNvSpPr/>
          <p:nvPr/>
        </p:nvSpPr>
        <p:spPr>
          <a:xfrm>
            <a:off x="7045200" y="263376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IDANG</a:t>
            </a:r>
            <a:br>
              <a:rPr sz="1600"/>
            </a:b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RT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8"/>
          <p:cNvSpPr/>
          <p:nvPr/>
        </p:nvSpPr>
        <p:spPr>
          <a:xfrm>
            <a:off x="6691320" y="34718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6 Apr - 6 Mei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43"/>
          <p:cNvCxnSpPr/>
          <p:nvPr/>
        </p:nvCxnSpPr>
        <p:spPr>
          <a:xfrm>
            <a:off x="1072800" y="2930040"/>
            <a:ext cx="59634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45"/>
          <p:cNvSpPr/>
          <p:nvPr/>
        </p:nvSpPr>
        <p:spPr>
          <a:xfrm>
            <a:off x="6108840" y="1990800"/>
            <a:ext cx="304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Paling cepat </a:t>
            </a:r>
            <a:r>
              <a:rPr b="0" lang="en-ID" sz="1100" spc="-1" strike="noStrike">
                <a:solidFill>
                  <a:srgbClr val="002060"/>
                </a:solidFill>
                <a:latin typeface="Cambria"/>
              </a:rPr>
              <a:t>5</a:t>
            </a:r>
            <a:r>
              <a:rPr b="0" lang="id-ID" sz="1100" spc="-1" strike="noStrike">
                <a:solidFill>
                  <a:srgbClr val="002060"/>
                </a:solidFill>
                <a:latin typeface="Cambria"/>
              </a:rPr>
              <a:t> hari kerja setelah Permohonan Pemohon dicatat dalam e-BRPK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4508640" y="4876200"/>
            <a:ext cx="1360440" cy="33732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6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4495680" y="299916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IHAK TERKA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8"/>
          <p:cNvSpPr/>
          <p:nvPr/>
        </p:nvSpPr>
        <p:spPr>
          <a:xfrm>
            <a:off x="4495680" y="338004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9"/>
          <p:cNvSpPr/>
          <p:nvPr/>
        </p:nvSpPr>
        <p:spPr>
          <a:xfrm>
            <a:off x="4495680" y="219888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PE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0"/>
          <p:cNvSpPr/>
          <p:nvPr/>
        </p:nvSpPr>
        <p:spPr>
          <a:xfrm>
            <a:off x="4495680" y="2580120"/>
            <a:ext cx="1575000" cy="307080"/>
          </a:xfrm>
          <a:prstGeom prst="rect">
            <a:avLst/>
          </a:prstGeom>
          <a:solidFill>
            <a:srgbClr val="8d3c15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446120" y="2425680"/>
            <a:ext cx="26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Pemberitah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id-ID" sz="1200" spc="-1" strike="noStrike">
                <a:solidFill>
                  <a:srgbClr val="002060"/>
                </a:solidFill>
                <a:latin typeface="Cambria"/>
              </a:rPr>
              <a:t>Hari Sidang Pert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8"/>
          <p:cNvSpPr/>
          <p:nvPr/>
        </p:nvSpPr>
        <p:spPr>
          <a:xfrm>
            <a:off x="169920" y="53658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mbria"/>
              </a:rPr>
              <a:t>22 Ap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4488-9D96-41FF-9090-92F38471AFDD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43"/>
          <p:cNvCxnSpPr/>
          <p:nvPr/>
        </p:nvCxnSpPr>
        <p:spPr>
          <a:xfrm flipV="1">
            <a:off x="1370160" y="4152240"/>
            <a:ext cx="48960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Rectangle 63"/>
          <p:cNvSpPr/>
          <p:nvPr/>
        </p:nvSpPr>
        <p:spPr>
          <a:xfrm>
            <a:off x="3808440" y="390600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4"/>
          <p:cNvSpPr/>
          <p:nvPr/>
        </p:nvSpPr>
        <p:spPr>
          <a:xfrm>
            <a:off x="1871640" y="380376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5173560" y="254952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cepat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5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6"/>
          <p:cNvSpPr/>
          <p:nvPr/>
        </p:nvSpPr>
        <p:spPr>
          <a:xfrm>
            <a:off x="217440" y="3570120"/>
            <a:ext cx="1152720" cy="12639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67"/>
          <p:cNvSpPr/>
          <p:nvPr/>
        </p:nvSpPr>
        <p:spPr>
          <a:xfrm>
            <a:off x="216000" y="4164120"/>
            <a:ext cx="11811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Elbow Connector 35"/>
          <p:cNvCxnSpPr/>
          <p:nvPr/>
        </p:nvCxnSpPr>
        <p:spPr>
          <a:xfrm>
            <a:off x="4919400" y="298728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179" name="Group 69"/>
          <p:cNvGrpSpPr/>
          <p:nvPr/>
        </p:nvGrpSpPr>
        <p:grpSpPr>
          <a:xfrm>
            <a:off x="457200" y="2478240"/>
            <a:ext cx="8672400" cy="2795400"/>
            <a:chOff x="457200" y="2478240"/>
            <a:chExt cx="8672400" cy="2795400"/>
          </a:xfrm>
        </p:grpSpPr>
        <p:grpSp>
          <p:nvGrpSpPr>
            <p:cNvPr id="180" name="Group 70"/>
            <p:cNvGrpSpPr/>
            <p:nvPr/>
          </p:nvGrpSpPr>
          <p:grpSpPr>
            <a:xfrm>
              <a:off x="457200" y="2478240"/>
              <a:ext cx="4473000" cy="1128240"/>
              <a:chOff x="457200" y="2478240"/>
              <a:chExt cx="4473000" cy="1128240"/>
            </a:xfrm>
          </p:grpSpPr>
          <p:sp>
            <p:nvSpPr>
              <p:cNvPr id="181" name="TextBox 79"/>
              <p:cNvSpPr/>
              <p:nvPr/>
            </p:nvSpPr>
            <p:spPr>
              <a:xfrm>
                <a:off x="3187440" y="2577960"/>
                <a:ext cx="1670760" cy="1028520"/>
              </a:xfrm>
              <a:prstGeom prst="rect">
                <a:avLst/>
              </a:prstGeom>
              <a:solidFill>
                <a:srgbClr val="ffc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ihak Terkai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Rectangle 80"/>
              <p:cNvGrpSpPr/>
              <p:nvPr/>
            </p:nvGrpSpPr>
            <p:grpSpPr>
              <a:xfrm>
                <a:off x="3120480" y="2535840"/>
                <a:ext cx="1809720" cy="566640"/>
                <a:chOff x="3120480" y="2535840"/>
                <a:chExt cx="1809720" cy="566640"/>
              </a:xfrm>
            </p:grpSpPr>
            <p:pic>
              <p:nvPicPr>
                <p:cNvPr id="183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0480" y="2535840"/>
                  <a:ext cx="1809720" cy="56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>
                  <a:off x="3186720" y="2577600"/>
                  <a:ext cx="16696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Rectangle 48"/>
              <p:cNvSpPr/>
              <p:nvPr/>
            </p:nvSpPr>
            <p:spPr>
              <a:xfrm>
                <a:off x="457200" y="2478240"/>
                <a:ext cx="275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 hari  kerja setelah BRPK atau 3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 kerj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sebelum Pemeriksaan Pendahulu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23 - 25 Apr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Straight Connector 34"/>
              <p:cNvSpPr/>
              <p:nvPr/>
            </p:nvSpPr>
            <p:spPr>
              <a:xfrm flipH="1" flipV="1">
                <a:off x="3198240" y="2989800"/>
                <a:ext cx="169956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7" name="Elbow Connector 35"/>
              <p:cNvCxnSpPr/>
              <p:nvPr/>
            </p:nvCxnSpPr>
            <p:spPr>
              <a:xfrm flipH="1" flipV="1" rot="5400000">
                <a:off x="1711800" y="2083680"/>
                <a:ext cx="552960" cy="239652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grpSp>
          <p:nvGrpSpPr>
            <p:cNvPr id="188" name="Group 71"/>
            <p:cNvGrpSpPr/>
            <p:nvPr/>
          </p:nvGrpSpPr>
          <p:grpSpPr>
            <a:xfrm>
              <a:off x="3491280" y="4262400"/>
              <a:ext cx="1944000" cy="1011240"/>
              <a:chOff x="3491280" y="4262400"/>
              <a:chExt cx="1944000" cy="1011240"/>
            </a:xfrm>
          </p:grpSpPr>
          <p:sp>
            <p:nvSpPr>
              <p:cNvPr id="189" name="Rectangle 47"/>
              <p:cNvSpPr/>
              <p:nvPr/>
            </p:nvSpPr>
            <p:spPr>
              <a:xfrm>
                <a:off x="3491280" y="4814640"/>
                <a:ext cx="1385280" cy="45900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ENGAJUAN PERMOHON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</a:rPr>
                  <a:t>SEBAGAI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IHAK TERKA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48"/>
              <p:cNvSpPr/>
              <p:nvPr/>
            </p:nvSpPr>
            <p:spPr>
              <a:xfrm>
                <a:off x="3757320" y="4262400"/>
                <a:ext cx="16779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79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6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72"/>
            <p:cNvGrpSpPr/>
            <p:nvPr/>
          </p:nvGrpSpPr>
          <p:grpSpPr>
            <a:xfrm>
              <a:off x="7755120" y="3286080"/>
              <a:ext cx="1374480" cy="1147680"/>
              <a:chOff x="7755120" y="3286080"/>
              <a:chExt cx="1374480" cy="1147680"/>
            </a:xfrm>
          </p:grpSpPr>
          <p:sp>
            <p:nvSpPr>
              <p:cNvPr id="192" name="Oval 73"/>
              <p:cNvSpPr/>
              <p:nvPr/>
            </p:nvSpPr>
            <p:spPr>
              <a:xfrm>
                <a:off x="7755120" y="3286080"/>
                <a:ext cx="1374480" cy="114768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74"/>
              <p:cNvSpPr/>
              <p:nvPr/>
            </p:nvSpPr>
            <p:spPr>
              <a:xfrm>
                <a:off x="7850160" y="3390840"/>
                <a:ext cx="1189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SIDANG</a:t>
                </a:r>
                <a:br>
                  <a:rPr sz="1400"/>
                </a:br>
                <a:r>
                  <a:rPr b="1" lang="id-ID" sz="1400" spc="-1" strike="noStrike">
                    <a:solidFill>
                      <a:srgbClr val="ffffff"/>
                    </a:solidFill>
                    <a:latin typeface="Cambria"/>
                  </a:rPr>
                  <a:t>PERTA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Box 75"/>
              <p:cNvSpPr/>
              <p:nvPr/>
            </p:nvSpPr>
            <p:spPr>
              <a:xfrm>
                <a:off x="7889760" y="3905280"/>
                <a:ext cx="1189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Straight Connector 34"/>
              <p:cNvSpPr/>
              <p:nvPr/>
            </p:nvSpPr>
            <p:spPr>
              <a:xfrm flipH="1" flipV="1">
                <a:off x="7768440" y="3906720"/>
                <a:ext cx="133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Rectangle 84"/>
          <p:cNvSpPr/>
          <p:nvPr/>
        </p:nvSpPr>
        <p:spPr>
          <a:xfrm>
            <a:off x="3808440" y="415656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Elbow Connector 35"/>
          <p:cNvCxnSpPr>
            <a:stCxn id="176" idx="4"/>
          </p:cNvCxnSpPr>
          <p:nvPr/>
        </p:nvCxnSpPr>
        <p:spPr>
          <a:xfrm flipH="1" rot="16200000">
            <a:off x="1948320" y="3678120"/>
            <a:ext cx="421200" cy="273240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98" name="Straight Arrow Connector 43"/>
          <p:cNvCxnSpPr/>
          <p:nvPr/>
        </p:nvCxnSpPr>
        <p:spPr>
          <a:xfrm flipV="1">
            <a:off x="3446280" y="4147920"/>
            <a:ext cx="362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Rectangle 44"/>
          <p:cNvSpPr/>
          <p:nvPr/>
        </p:nvSpPr>
        <p:spPr>
          <a:xfrm>
            <a:off x="1870200" y="4170240"/>
            <a:ext cx="15764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ma 1</a:t>
            </a:r>
            <a:r>
              <a:rPr b="1" lang="id-ID" sz="8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hari kerja setelah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4"/>
          <p:cNvSpPr/>
          <p:nvPr/>
        </p:nvSpPr>
        <p:spPr>
          <a:xfrm>
            <a:off x="3497400" y="5254560"/>
            <a:ext cx="13921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4"/>
          <p:cNvSpPr/>
          <p:nvPr/>
        </p:nvSpPr>
        <p:spPr>
          <a:xfrm>
            <a:off x="6176880" y="4768920"/>
            <a:ext cx="1577880" cy="4744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HARI SIDANG PERTAMA KEPADA PIHAK </a:t>
            </a:r>
            <a:r>
              <a:rPr b="1" lang="en-US" sz="900" spc="-1" strike="noStrike">
                <a:solidFill>
                  <a:srgbClr val="ffffff"/>
                </a:solidFill>
                <a:latin typeface="Cambria"/>
              </a:rPr>
              <a:t>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4"/>
          <p:cNvSpPr/>
          <p:nvPr/>
        </p:nvSpPr>
        <p:spPr>
          <a:xfrm>
            <a:off x="6181560" y="5240160"/>
            <a:ext cx="156708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3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meriksaan Pendahuluan</a:t>
            </a:r>
            <a:br>
              <a:rPr sz="800"/>
            </a:br>
            <a:r>
              <a:rPr b="1" lang="en-US" sz="800" spc="-1" strike="noStrike">
                <a:solidFill>
                  <a:srgbClr val="ff0000"/>
                </a:solidFill>
                <a:latin typeface="Cambria"/>
                <a:ea typeface="Cambria"/>
              </a:rPr>
              <a:t>23 - 25 Apr 2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Elbow Connector 91"/>
          <p:cNvCxnSpPr/>
          <p:nvPr/>
        </p:nvCxnSpPr>
        <p:spPr>
          <a:xfrm flipV="1">
            <a:off x="7556040" y="4444200"/>
            <a:ext cx="886680" cy="78804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04" name="Straight Arrow Connector 43"/>
          <p:cNvCxnSpPr/>
          <p:nvPr/>
        </p:nvCxnSpPr>
        <p:spPr>
          <a:xfrm flipV="1">
            <a:off x="4876920" y="5244480"/>
            <a:ext cx="130392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Rectangle 93"/>
          <p:cNvSpPr/>
          <p:nvPr/>
        </p:nvSpPr>
        <p:spPr>
          <a:xfrm>
            <a:off x="7845480" y="399240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mbria"/>
                <a:ea typeface="Cambria"/>
              </a:rPr>
              <a:t>26 Apr  - 6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94"/>
          <p:cNvSpPr/>
          <p:nvPr/>
        </p:nvSpPr>
        <p:spPr>
          <a:xfrm>
            <a:off x="272880" y="4268880"/>
            <a:ext cx="10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mbria"/>
                <a:ea typeface="Cambria"/>
              </a:rPr>
              <a:t>22 Apr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5"/>
          <p:cNvSpPr/>
          <p:nvPr/>
        </p:nvSpPr>
        <p:spPr>
          <a:xfrm>
            <a:off x="252360" y="374796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5"/>
          <p:cNvSpPr/>
          <p:nvPr/>
        </p:nvSpPr>
        <p:spPr>
          <a:xfrm>
            <a:off x="4608360" y="4599000"/>
            <a:ext cx="174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3 - 24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2527200" y="356400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4084560" y="458316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2"/>
          <p:cNvSpPr/>
          <p:nvPr/>
        </p:nvSpPr>
        <p:spPr>
          <a:xfrm>
            <a:off x="4896000" y="2627280"/>
            <a:ext cx="3013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2"/>
          <p:cNvSpPr/>
          <p:nvPr/>
        </p:nvSpPr>
        <p:spPr>
          <a:xfrm>
            <a:off x="6773760" y="453384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2"/>
          <p:cNvSpPr/>
          <p:nvPr/>
        </p:nvSpPr>
        <p:spPr>
          <a:xfrm>
            <a:off x="8472600" y="302904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7:39:58Z</dcterms:created>
  <dc:creator>Ricky Nafri Habib Anda</dc:creator>
  <dc:description/>
  <dc:language>en-US</dc:language>
  <cp:lastModifiedBy>Dr. Wiryanto</cp:lastModifiedBy>
  <dcterms:modified xsi:type="dcterms:W3CDTF">2023-09-19T03:18:59Z</dcterms:modified>
  <cp:revision>669</cp:revision>
  <dc:subject/>
  <dc:title>Slide 1</dc:title>
</cp:coreProperties>
</file>